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tervention:  use of diagnostic test to target specific intervention based on student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for conceptual understanding not just procedural pro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ful practice ~ elearning activites, practice that involves thinking a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Representation ~ use of manips and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CC17-7DDE-444F-8F2B-8249364B6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120A-C38B-4AE5-AC71-66305C2E4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FF07-D0C3-4DB9-A69B-131A7B5C3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9E3D-D903-4160-9034-95EFE3B9B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92C0-14F0-4716-BBE1-AF4B24C5E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FD2B-61F8-4DC8-B64E-D379F3EEE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DF97-4C3A-4DC4-B62A-F820FE8B0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9489-F1FC-413F-B4C7-049C5CEBC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0C2D-572F-48E4-8518-0B3078DB4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6858-77B1-420F-A0BD-E22EE017E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0302-F508-40D5-B4CB-0FB49D2BD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FE51-4690-4C9A-8CC0-B05A90D76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E32-9F46-41B5-BAE6-08B3BE7860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F2DC-E1D6-4206-B9BD-C07B28DD5A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Session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orking with Struggl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AP 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Proportional Reasoning ~ Session #4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stand key pedagogical components of GAP clos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use of open questions for working with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ntent that is particularly problematic for struggli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BA6-99E4-4651-AD3A-0201226406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0A18-8ADB-4939-99AF-AFCEC55E77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tting Re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a specific struggling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eatures of GAP closing might be most effective with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rgeted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eptual Based I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aningfu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)  Visu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EB74-0F33-4B1C-AD8E-33140C449E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Inside/Outside Circ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78F-45D6-47C8-AB8B-893F4792A4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nut 1"/>
          <p:cNvSpPr/>
          <p:nvPr/>
        </p:nvSpPr>
        <p:spPr>
          <a:xfrm>
            <a:off x="2476440" y="1649520"/>
            <a:ext cx="3886200" cy="3608280"/>
          </a:xfrm>
          <a:custGeom>
            <a:avLst/>
            <a:gdLst/>
            <a:ahLst/>
            <a:rect l="l" t="t" r="r" b="b"/>
            <a:pathLst>
              <a:path w="3886200" h="3608387">
                <a:moveTo>
                  <a:pt x="0" y="1804194"/>
                </a:moveTo>
                <a:cubicBezTo>
                  <a:pt x="0" y="807765"/>
                  <a:pt x="869956" y="0"/>
                  <a:pt x="1943100" y="0"/>
                </a:cubicBezTo>
                <a:cubicBezTo>
                  <a:pt x="3016244" y="0"/>
                  <a:pt x="3886200" y="807765"/>
                  <a:pt x="3886200" y="1804194"/>
                </a:cubicBezTo>
                <a:cubicBezTo>
                  <a:pt x="3886200" y="2800623"/>
                  <a:pt x="3016244" y="3608388"/>
                  <a:pt x="1943100" y="3608388"/>
                </a:cubicBezTo>
                <a:cubicBezTo>
                  <a:pt x="869956" y="3608388"/>
                  <a:pt x="0" y="2800623"/>
                  <a:pt x="0" y="1804194"/>
                </a:cubicBezTo>
                <a:close/>
                <a:moveTo>
                  <a:pt x="902097" y="1804194"/>
                </a:moveTo>
                <a:cubicBezTo>
                  <a:pt x="902097" y="2302408"/>
                  <a:pt x="1368170" y="2706291"/>
                  <a:pt x="1943100" y="2706291"/>
                </a:cubicBezTo>
                <a:cubicBezTo>
                  <a:pt x="2518030" y="2706291"/>
                  <a:pt x="2984103" y="2302408"/>
                  <a:pt x="2984103" y="1804194"/>
                </a:cubicBezTo>
                <a:cubicBezTo>
                  <a:pt x="2984103" y="1305980"/>
                  <a:pt x="2518030" y="902097"/>
                  <a:pt x="1943100" y="902097"/>
                </a:cubicBezTo>
                <a:cubicBezTo>
                  <a:pt x="1368170" y="902097"/>
                  <a:pt x="902097" y="1305980"/>
                  <a:pt x="902097" y="1804194"/>
                </a:cubicBez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3177000" y="3186000"/>
            <a:ext cx="418680" cy="381240"/>
            <a:chOff x="3177000" y="3186000"/>
            <a:chExt cx="418680" cy="381240"/>
          </a:xfrm>
        </p:grpSpPr>
        <p:sp>
          <p:nvSpPr>
            <p:cNvPr id="62" name="AutoShape 6"/>
            <p:cNvSpPr/>
            <p:nvPr/>
          </p:nvSpPr>
          <p:spPr>
            <a:xfrm flipH="1">
              <a:off x="3176640" y="31860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flipH="1">
              <a:off x="3176640" y="31860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flipH="1">
              <a:off x="3434760" y="32878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flipH="1">
              <a:off x="343332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flipH="1">
              <a:off x="3295440" y="32860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flipH="1">
              <a:off x="3295440" y="32860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flipH="1">
              <a:off x="3233520" y="33908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7"/>
          <p:cNvGrpSpPr/>
          <p:nvPr/>
        </p:nvGrpSpPr>
        <p:grpSpPr>
          <a:xfrm>
            <a:off x="3426120" y="3809880"/>
            <a:ext cx="418680" cy="381240"/>
            <a:chOff x="3426120" y="3809880"/>
            <a:chExt cx="418680" cy="381240"/>
          </a:xfrm>
        </p:grpSpPr>
        <p:sp>
          <p:nvSpPr>
            <p:cNvPr id="71" name="AutoShape 6"/>
            <p:cNvSpPr/>
            <p:nvPr/>
          </p:nvSpPr>
          <p:spPr>
            <a:xfrm flipH="1">
              <a:off x="3425760" y="380988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9"/>
            <p:cNvSpPr/>
            <p:nvPr/>
          </p:nvSpPr>
          <p:spPr>
            <a:xfrm flipH="1">
              <a:off x="3425760" y="380988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"/>
            <p:cNvSpPr/>
            <p:nvPr/>
          </p:nvSpPr>
          <p:spPr>
            <a:xfrm flipH="1">
              <a:off x="3683880" y="391176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 flipH="1">
              <a:off x="368244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>
              <a:off x="3544560" y="390996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 flipH="1">
              <a:off x="3544560" y="390996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flipH="1">
              <a:off x="3482640" y="401472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3559680" y="2544840"/>
            <a:ext cx="418680" cy="380880"/>
            <a:chOff x="3559680" y="2544840"/>
            <a:chExt cx="418680" cy="380880"/>
          </a:xfrm>
        </p:grpSpPr>
        <p:sp>
          <p:nvSpPr>
            <p:cNvPr id="80" name="AutoShape 6"/>
            <p:cNvSpPr/>
            <p:nvPr/>
          </p:nvSpPr>
          <p:spPr>
            <a:xfrm flipH="1">
              <a:off x="3559320" y="2544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"/>
            <p:cNvSpPr/>
            <p:nvPr/>
          </p:nvSpPr>
          <p:spPr>
            <a:xfrm flipH="1">
              <a:off x="3559320" y="2544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0"/>
            <p:cNvSpPr/>
            <p:nvPr/>
          </p:nvSpPr>
          <p:spPr>
            <a:xfrm flipH="1">
              <a:off x="3817440" y="2646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"/>
            <p:cNvSpPr/>
            <p:nvPr/>
          </p:nvSpPr>
          <p:spPr>
            <a:xfrm flipH="1">
              <a:off x="381600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"/>
            <p:cNvSpPr/>
            <p:nvPr/>
          </p:nvSpPr>
          <p:spPr>
            <a:xfrm flipH="1">
              <a:off x="3678120" y="2644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"/>
            <p:cNvSpPr/>
            <p:nvPr/>
          </p:nvSpPr>
          <p:spPr>
            <a:xfrm flipH="1">
              <a:off x="3678120" y="2644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4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5"/>
            <p:cNvSpPr/>
            <p:nvPr/>
          </p:nvSpPr>
          <p:spPr>
            <a:xfrm flipH="1">
              <a:off x="3616200" y="2749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4215240" y="2355840"/>
            <a:ext cx="418680" cy="380880"/>
            <a:chOff x="4215240" y="2355840"/>
            <a:chExt cx="418680" cy="380880"/>
          </a:xfrm>
        </p:grpSpPr>
        <p:sp>
          <p:nvSpPr>
            <p:cNvPr id="89" name="AutoShape 6"/>
            <p:cNvSpPr/>
            <p:nvPr/>
          </p:nvSpPr>
          <p:spPr>
            <a:xfrm flipH="1">
              <a:off x="4214880" y="235584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 flipH="1">
              <a:off x="4214880" y="235584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 flipH="1">
              <a:off x="4473000" y="245736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 flipH="1">
              <a:off x="447156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 flipH="1">
              <a:off x="4333680" y="245556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 flipH="1">
              <a:off x="4333680" y="245556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 flipH="1">
              <a:off x="4271760" y="256032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4980240" y="2668680"/>
            <a:ext cx="418680" cy="380880"/>
            <a:chOff x="4980240" y="2668680"/>
            <a:chExt cx="418680" cy="380880"/>
          </a:xfrm>
        </p:grpSpPr>
        <p:sp>
          <p:nvSpPr>
            <p:cNvPr id="98" name="AutoShape 6"/>
            <p:cNvSpPr/>
            <p:nvPr/>
          </p:nvSpPr>
          <p:spPr>
            <a:xfrm flipH="1">
              <a:off x="4979880" y="2668680"/>
              <a:ext cx="4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flipH="1">
              <a:off x="4979880" y="2668680"/>
              <a:ext cx="418680" cy="38088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flipH="1">
              <a:off x="5238000" y="2770200"/>
              <a:ext cx="43200" cy="8208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flipH="1">
              <a:off x="523656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flipH="1">
              <a:off x="5098680" y="2768400"/>
              <a:ext cx="44640" cy="8388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flipH="1">
              <a:off x="5098680" y="2768400"/>
              <a:ext cx="44640" cy="8532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flipH="1">
              <a:off x="5036760" y="2873160"/>
              <a:ext cx="285840" cy="10908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905720" y="3898800"/>
            <a:ext cx="418680" cy="381240"/>
            <a:chOff x="4905720" y="3898800"/>
            <a:chExt cx="418680" cy="381240"/>
          </a:xfrm>
        </p:grpSpPr>
        <p:sp>
          <p:nvSpPr>
            <p:cNvPr id="107" name="AutoShape 6"/>
            <p:cNvSpPr/>
            <p:nvPr/>
          </p:nvSpPr>
          <p:spPr>
            <a:xfrm flipH="1">
              <a:off x="4905360" y="389880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>
              <a:off x="4905360" y="389880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flipH="1">
              <a:off x="5163480" y="40006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 flipH="1">
              <a:off x="516204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 flipH="1">
              <a:off x="5024160" y="399888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 flipH="1">
              <a:off x="5024160" y="399888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 flipH="1">
              <a:off x="4962240" y="410364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200840" y="4124160"/>
            <a:ext cx="418680" cy="381240"/>
            <a:chOff x="4200840" y="4124160"/>
            <a:chExt cx="418680" cy="381240"/>
          </a:xfrm>
        </p:grpSpPr>
        <p:sp>
          <p:nvSpPr>
            <p:cNvPr id="116" name="AutoShape 6"/>
            <p:cNvSpPr/>
            <p:nvPr/>
          </p:nvSpPr>
          <p:spPr>
            <a:xfrm flipH="1">
              <a:off x="4200480" y="4124160"/>
              <a:ext cx="418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 flipH="1">
              <a:off x="4200480" y="4124160"/>
              <a:ext cx="4186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 flipH="1">
              <a:off x="4458600" y="422604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flipH="1">
              <a:off x="445716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>
              <a:off x="4319280" y="4224240"/>
              <a:ext cx="4464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 flipH="1">
              <a:off x="4319280" y="4224240"/>
              <a:ext cx="4464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 flipH="1">
              <a:off x="4257360" y="4329000"/>
              <a:ext cx="28584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5238720" y="3279600"/>
            <a:ext cx="420480" cy="381240"/>
            <a:chOff x="5238720" y="3279600"/>
            <a:chExt cx="420480" cy="381240"/>
          </a:xfrm>
        </p:grpSpPr>
        <p:sp>
          <p:nvSpPr>
            <p:cNvPr id="125" name="AutoShape 6"/>
            <p:cNvSpPr/>
            <p:nvPr/>
          </p:nvSpPr>
          <p:spPr>
            <a:xfrm flipH="1">
              <a:off x="5238720" y="3279600"/>
              <a:ext cx="420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 flipH="1">
              <a:off x="5238720" y="3279600"/>
              <a:ext cx="420480" cy="381240"/>
            </a:xfrm>
            <a:custGeom>
              <a:avLst/>
              <a:gdLst/>
              <a:ahLst/>
              <a:rect l="l" t="t" r="r" b="b"/>
              <a:pathLst>
                <a:path w="3270" h="3114">
                  <a:moveTo>
                    <a:pt x="1635" y="0"/>
                  </a:moveTo>
                  <a:lnTo>
                    <a:pt x="1678" y="0"/>
                  </a:lnTo>
                  <a:lnTo>
                    <a:pt x="1720" y="2"/>
                  </a:lnTo>
                  <a:lnTo>
                    <a:pt x="1802" y="8"/>
                  </a:lnTo>
                  <a:lnTo>
                    <a:pt x="1883" y="19"/>
                  </a:lnTo>
                  <a:lnTo>
                    <a:pt x="1964" y="33"/>
                  </a:lnTo>
                  <a:lnTo>
                    <a:pt x="2005" y="39"/>
                  </a:lnTo>
                  <a:lnTo>
                    <a:pt x="2082" y="60"/>
                  </a:lnTo>
                  <a:lnTo>
                    <a:pt x="2160" y="82"/>
                  </a:lnTo>
                  <a:lnTo>
                    <a:pt x="2233" y="108"/>
                  </a:lnTo>
                  <a:lnTo>
                    <a:pt x="2308" y="139"/>
                  </a:lnTo>
                  <a:lnTo>
                    <a:pt x="2377" y="172"/>
                  </a:lnTo>
                  <a:lnTo>
                    <a:pt x="2416" y="188"/>
                  </a:lnTo>
                  <a:lnTo>
                    <a:pt x="2516" y="247"/>
                  </a:lnTo>
                  <a:lnTo>
                    <a:pt x="2549" y="267"/>
                  </a:lnTo>
                  <a:lnTo>
                    <a:pt x="2613" y="311"/>
                  </a:lnTo>
                  <a:lnTo>
                    <a:pt x="2675" y="357"/>
                  </a:lnTo>
                  <a:lnTo>
                    <a:pt x="2762" y="432"/>
                  </a:lnTo>
                  <a:lnTo>
                    <a:pt x="2792" y="458"/>
                  </a:lnTo>
                  <a:lnTo>
                    <a:pt x="2818" y="483"/>
                  </a:lnTo>
                  <a:lnTo>
                    <a:pt x="2896" y="568"/>
                  </a:lnTo>
                  <a:lnTo>
                    <a:pt x="2945" y="627"/>
                  </a:lnTo>
                  <a:lnTo>
                    <a:pt x="2991" y="687"/>
                  </a:lnTo>
                  <a:lnTo>
                    <a:pt x="3053" y="784"/>
                  </a:lnTo>
                  <a:lnTo>
                    <a:pt x="3091" y="850"/>
                  </a:lnTo>
                  <a:lnTo>
                    <a:pt x="3126" y="917"/>
                  </a:lnTo>
                  <a:lnTo>
                    <a:pt x="3157" y="989"/>
                  </a:lnTo>
                  <a:lnTo>
                    <a:pt x="3183" y="1059"/>
                  </a:lnTo>
                  <a:lnTo>
                    <a:pt x="3209" y="1133"/>
                  </a:lnTo>
                  <a:lnTo>
                    <a:pt x="3229" y="1207"/>
                  </a:lnTo>
                  <a:lnTo>
                    <a:pt x="3237" y="1244"/>
                  </a:lnTo>
                  <a:lnTo>
                    <a:pt x="3250" y="1321"/>
                  </a:lnTo>
                  <a:lnTo>
                    <a:pt x="3261" y="1398"/>
                  </a:lnTo>
                  <a:lnTo>
                    <a:pt x="3269" y="1477"/>
                  </a:lnTo>
                  <a:lnTo>
                    <a:pt x="3270" y="1517"/>
                  </a:lnTo>
                  <a:lnTo>
                    <a:pt x="3270" y="1598"/>
                  </a:lnTo>
                  <a:lnTo>
                    <a:pt x="3269" y="1637"/>
                  </a:lnTo>
                  <a:lnTo>
                    <a:pt x="3261" y="1716"/>
                  </a:lnTo>
                  <a:lnTo>
                    <a:pt x="3250" y="1794"/>
                  </a:lnTo>
                  <a:lnTo>
                    <a:pt x="3237" y="1870"/>
                  </a:lnTo>
                  <a:lnTo>
                    <a:pt x="3229" y="1907"/>
                  </a:lnTo>
                  <a:lnTo>
                    <a:pt x="3209" y="1983"/>
                  </a:lnTo>
                  <a:lnTo>
                    <a:pt x="3183" y="2057"/>
                  </a:lnTo>
                  <a:lnTo>
                    <a:pt x="3157" y="2129"/>
                  </a:lnTo>
                  <a:lnTo>
                    <a:pt x="3126" y="2197"/>
                  </a:lnTo>
                  <a:lnTo>
                    <a:pt x="3091" y="2264"/>
                  </a:lnTo>
                  <a:lnTo>
                    <a:pt x="3053" y="2333"/>
                  </a:lnTo>
                  <a:lnTo>
                    <a:pt x="2991" y="2427"/>
                  </a:lnTo>
                  <a:lnTo>
                    <a:pt x="2967" y="2458"/>
                  </a:lnTo>
                  <a:lnTo>
                    <a:pt x="2896" y="2546"/>
                  </a:lnTo>
                  <a:lnTo>
                    <a:pt x="2818" y="2631"/>
                  </a:lnTo>
                  <a:lnTo>
                    <a:pt x="2762" y="2684"/>
                  </a:lnTo>
                  <a:lnTo>
                    <a:pt x="2734" y="2710"/>
                  </a:lnTo>
                  <a:lnTo>
                    <a:pt x="2705" y="2736"/>
                  </a:lnTo>
                  <a:lnTo>
                    <a:pt x="2644" y="2783"/>
                  </a:lnTo>
                  <a:lnTo>
                    <a:pt x="2613" y="2805"/>
                  </a:lnTo>
                  <a:lnTo>
                    <a:pt x="2581" y="2826"/>
                  </a:lnTo>
                  <a:lnTo>
                    <a:pt x="2549" y="2849"/>
                  </a:lnTo>
                  <a:lnTo>
                    <a:pt x="2516" y="2869"/>
                  </a:lnTo>
                  <a:lnTo>
                    <a:pt x="2482" y="2890"/>
                  </a:lnTo>
                  <a:lnTo>
                    <a:pt x="2448" y="2907"/>
                  </a:lnTo>
                  <a:lnTo>
                    <a:pt x="2416" y="2927"/>
                  </a:lnTo>
                  <a:lnTo>
                    <a:pt x="2377" y="2942"/>
                  </a:lnTo>
                  <a:lnTo>
                    <a:pt x="2344" y="2962"/>
                  </a:lnTo>
                  <a:lnTo>
                    <a:pt x="2308" y="2975"/>
                  </a:lnTo>
                  <a:lnTo>
                    <a:pt x="2271" y="2993"/>
                  </a:lnTo>
                  <a:lnTo>
                    <a:pt x="2233" y="3006"/>
                  </a:lnTo>
                  <a:lnTo>
                    <a:pt x="2198" y="3020"/>
                  </a:lnTo>
                  <a:lnTo>
                    <a:pt x="2160" y="3032"/>
                  </a:lnTo>
                  <a:lnTo>
                    <a:pt x="2122" y="3046"/>
                  </a:lnTo>
                  <a:lnTo>
                    <a:pt x="2005" y="3075"/>
                  </a:lnTo>
                  <a:lnTo>
                    <a:pt x="1964" y="3083"/>
                  </a:lnTo>
                  <a:lnTo>
                    <a:pt x="1843" y="3103"/>
                  </a:lnTo>
                  <a:lnTo>
                    <a:pt x="1802" y="3106"/>
                  </a:lnTo>
                  <a:lnTo>
                    <a:pt x="1761" y="3111"/>
                  </a:lnTo>
                  <a:lnTo>
                    <a:pt x="1678" y="3114"/>
                  </a:lnTo>
                  <a:lnTo>
                    <a:pt x="1593" y="3114"/>
                  </a:lnTo>
                  <a:lnTo>
                    <a:pt x="1510" y="3111"/>
                  </a:lnTo>
                  <a:lnTo>
                    <a:pt x="1468" y="3106"/>
                  </a:lnTo>
                  <a:lnTo>
                    <a:pt x="1427" y="3103"/>
                  </a:lnTo>
                  <a:lnTo>
                    <a:pt x="1307" y="3083"/>
                  </a:lnTo>
                  <a:lnTo>
                    <a:pt x="1267" y="3075"/>
                  </a:lnTo>
                  <a:lnTo>
                    <a:pt x="1151" y="3046"/>
                  </a:lnTo>
                  <a:lnTo>
                    <a:pt x="1112" y="3032"/>
                  </a:lnTo>
                  <a:lnTo>
                    <a:pt x="1075" y="3020"/>
                  </a:lnTo>
                  <a:lnTo>
                    <a:pt x="1039" y="3006"/>
                  </a:lnTo>
                  <a:lnTo>
                    <a:pt x="1001" y="2993"/>
                  </a:lnTo>
                  <a:lnTo>
                    <a:pt x="963" y="2975"/>
                  </a:lnTo>
                  <a:lnTo>
                    <a:pt x="927" y="2962"/>
                  </a:lnTo>
                  <a:lnTo>
                    <a:pt x="893" y="2942"/>
                  </a:lnTo>
                  <a:lnTo>
                    <a:pt x="857" y="2927"/>
                  </a:lnTo>
                  <a:lnTo>
                    <a:pt x="825" y="2907"/>
                  </a:lnTo>
                  <a:lnTo>
                    <a:pt x="790" y="2890"/>
                  </a:lnTo>
                  <a:lnTo>
                    <a:pt x="755" y="2869"/>
                  </a:lnTo>
                  <a:lnTo>
                    <a:pt x="722" y="2849"/>
                  </a:lnTo>
                  <a:lnTo>
                    <a:pt x="692" y="2826"/>
                  </a:lnTo>
                  <a:lnTo>
                    <a:pt x="660" y="2805"/>
                  </a:lnTo>
                  <a:lnTo>
                    <a:pt x="628" y="2783"/>
                  </a:lnTo>
                  <a:lnTo>
                    <a:pt x="567" y="2736"/>
                  </a:lnTo>
                  <a:lnTo>
                    <a:pt x="537" y="2710"/>
                  </a:lnTo>
                  <a:lnTo>
                    <a:pt x="480" y="2656"/>
                  </a:lnTo>
                  <a:lnTo>
                    <a:pt x="452" y="2631"/>
                  </a:lnTo>
                  <a:lnTo>
                    <a:pt x="375" y="2546"/>
                  </a:lnTo>
                  <a:lnTo>
                    <a:pt x="303" y="2458"/>
                  </a:lnTo>
                  <a:lnTo>
                    <a:pt x="281" y="2427"/>
                  </a:lnTo>
                  <a:lnTo>
                    <a:pt x="218" y="2333"/>
                  </a:lnTo>
                  <a:lnTo>
                    <a:pt x="180" y="2264"/>
                  </a:lnTo>
                  <a:lnTo>
                    <a:pt x="146" y="2197"/>
                  </a:lnTo>
                  <a:lnTo>
                    <a:pt x="116" y="2129"/>
                  </a:lnTo>
                  <a:lnTo>
                    <a:pt x="87" y="2057"/>
                  </a:lnTo>
                  <a:lnTo>
                    <a:pt x="64" y="1983"/>
                  </a:lnTo>
                  <a:lnTo>
                    <a:pt x="42" y="1907"/>
                  </a:lnTo>
                  <a:lnTo>
                    <a:pt x="35" y="1870"/>
                  </a:lnTo>
                  <a:lnTo>
                    <a:pt x="21" y="1794"/>
                  </a:lnTo>
                  <a:lnTo>
                    <a:pt x="10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10" y="1398"/>
                  </a:lnTo>
                  <a:lnTo>
                    <a:pt x="21" y="1321"/>
                  </a:lnTo>
                  <a:lnTo>
                    <a:pt x="35" y="1244"/>
                  </a:lnTo>
                  <a:lnTo>
                    <a:pt x="42" y="1207"/>
                  </a:lnTo>
                  <a:lnTo>
                    <a:pt x="64" y="1133"/>
                  </a:lnTo>
                  <a:lnTo>
                    <a:pt x="87" y="1059"/>
                  </a:lnTo>
                  <a:lnTo>
                    <a:pt x="116" y="989"/>
                  </a:lnTo>
                  <a:lnTo>
                    <a:pt x="146" y="917"/>
                  </a:lnTo>
                  <a:lnTo>
                    <a:pt x="180" y="850"/>
                  </a:lnTo>
                  <a:lnTo>
                    <a:pt x="218" y="784"/>
                  </a:lnTo>
                  <a:lnTo>
                    <a:pt x="281" y="687"/>
                  </a:lnTo>
                  <a:lnTo>
                    <a:pt x="327" y="627"/>
                  </a:lnTo>
                  <a:lnTo>
                    <a:pt x="375" y="568"/>
                  </a:lnTo>
                  <a:lnTo>
                    <a:pt x="452" y="483"/>
                  </a:lnTo>
                  <a:lnTo>
                    <a:pt x="507" y="432"/>
                  </a:lnTo>
                  <a:lnTo>
                    <a:pt x="596" y="357"/>
                  </a:lnTo>
                  <a:lnTo>
                    <a:pt x="660" y="311"/>
                  </a:lnTo>
                  <a:lnTo>
                    <a:pt x="722" y="267"/>
                  </a:lnTo>
                  <a:lnTo>
                    <a:pt x="755" y="247"/>
                  </a:lnTo>
                  <a:lnTo>
                    <a:pt x="825" y="207"/>
                  </a:lnTo>
                  <a:lnTo>
                    <a:pt x="857" y="188"/>
                  </a:lnTo>
                  <a:lnTo>
                    <a:pt x="927" y="154"/>
                  </a:lnTo>
                  <a:lnTo>
                    <a:pt x="963" y="139"/>
                  </a:lnTo>
                  <a:lnTo>
                    <a:pt x="1039" y="108"/>
                  </a:lnTo>
                  <a:lnTo>
                    <a:pt x="1112" y="82"/>
                  </a:lnTo>
                  <a:lnTo>
                    <a:pt x="1190" y="60"/>
                  </a:lnTo>
                  <a:lnTo>
                    <a:pt x="1267" y="39"/>
                  </a:lnTo>
                  <a:lnTo>
                    <a:pt x="1307" y="33"/>
                  </a:lnTo>
                  <a:lnTo>
                    <a:pt x="1388" y="19"/>
                  </a:lnTo>
                  <a:lnTo>
                    <a:pt x="1468" y="8"/>
                  </a:lnTo>
                  <a:lnTo>
                    <a:pt x="1552" y="2"/>
                  </a:lnTo>
                  <a:lnTo>
                    <a:pt x="1593" y="0"/>
                  </a:lnTo>
                  <a:lnTo>
                    <a:pt x="1635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 flipH="1">
              <a:off x="5497560" y="3381480"/>
              <a:ext cx="43200" cy="82440"/>
            </a:xfrm>
            <a:custGeom>
              <a:avLst/>
              <a:gdLst/>
              <a:ahLst/>
              <a:rect l="l" t="t" r="r" b="b"/>
              <a:pathLst>
                <a:path w="340" h="686">
                  <a:moveTo>
                    <a:pt x="170" y="0"/>
                  </a:moveTo>
                  <a:lnTo>
                    <a:pt x="178" y="0"/>
                  </a:lnTo>
                  <a:lnTo>
                    <a:pt x="197" y="3"/>
                  </a:lnTo>
                  <a:lnTo>
                    <a:pt x="205" y="6"/>
                  </a:lnTo>
                  <a:lnTo>
                    <a:pt x="219" y="13"/>
                  </a:lnTo>
                  <a:lnTo>
                    <a:pt x="251" y="41"/>
                  </a:lnTo>
                  <a:lnTo>
                    <a:pt x="279" y="78"/>
                  </a:lnTo>
                  <a:lnTo>
                    <a:pt x="291" y="99"/>
                  </a:lnTo>
                  <a:lnTo>
                    <a:pt x="301" y="125"/>
                  </a:lnTo>
                  <a:lnTo>
                    <a:pt x="312" y="152"/>
                  </a:lnTo>
                  <a:lnTo>
                    <a:pt x="321" y="179"/>
                  </a:lnTo>
                  <a:lnTo>
                    <a:pt x="326" y="208"/>
                  </a:lnTo>
                  <a:lnTo>
                    <a:pt x="337" y="274"/>
                  </a:lnTo>
                  <a:lnTo>
                    <a:pt x="340" y="342"/>
                  </a:lnTo>
                  <a:lnTo>
                    <a:pt x="337" y="413"/>
                  </a:lnTo>
                  <a:lnTo>
                    <a:pt x="326" y="478"/>
                  </a:lnTo>
                  <a:lnTo>
                    <a:pt x="321" y="506"/>
                  </a:lnTo>
                  <a:lnTo>
                    <a:pt x="312" y="534"/>
                  </a:lnTo>
                  <a:lnTo>
                    <a:pt x="301" y="564"/>
                  </a:lnTo>
                  <a:lnTo>
                    <a:pt x="291" y="585"/>
                  </a:lnTo>
                  <a:lnTo>
                    <a:pt x="279" y="608"/>
                  </a:lnTo>
                  <a:lnTo>
                    <a:pt x="251" y="645"/>
                  </a:lnTo>
                  <a:lnTo>
                    <a:pt x="236" y="658"/>
                  </a:lnTo>
                  <a:lnTo>
                    <a:pt x="219" y="671"/>
                  </a:lnTo>
                  <a:lnTo>
                    <a:pt x="205" y="681"/>
                  </a:lnTo>
                  <a:lnTo>
                    <a:pt x="197" y="685"/>
                  </a:lnTo>
                  <a:lnTo>
                    <a:pt x="178" y="686"/>
                  </a:lnTo>
                  <a:lnTo>
                    <a:pt x="162" y="686"/>
                  </a:lnTo>
                  <a:lnTo>
                    <a:pt x="144" y="685"/>
                  </a:lnTo>
                  <a:lnTo>
                    <a:pt x="135" y="681"/>
                  </a:lnTo>
                  <a:lnTo>
                    <a:pt x="121" y="671"/>
                  </a:lnTo>
                  <a:lnTo>
                    <a:pt x="105" y="658"/>
                  </a:lnTo>
                  <a:lnTo>
                    <a:pt x="89" y="645"/>
                  </a:lnTo>
                  <a:lnTo>
                    <a:pt x="76" y="629"/>
                  </a:lnTo>
                  <a:lnTo>
                    <a:pt x="64" y="608"/>
                  </a:lnTo>
                  <a:lnTo>
                    <a:pt x="38" y="564"/>
                  </a:lnTo>
                  <a:lnTo>
                    <a:pt x="13" y="478"/>
                  </a:lnTo>
                  <a:lnTo>
                    <a:pt x="8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8" y="241"/>
                  </a:lnTo>
                  <a:lnTo>
                    <a:pt x="13" y="208"/>
                  </a:lnTo>
                  <a:lnTo>
                    <a:pt x="38" y="125"/>
                  </a:lnTo>
                  <a:lnTo>
                    <a:pt x="51" y="99"/>
                  </a:lnTo>
                  <a:lnTo>
                    <a:pt x="76" y="58"/>
                  </a:lnTo>
                  <a:lnTo>
                    <a:pt x="89" y="41"/>
                  </a:lnTo>
                  <a:lnTo>
                    <a:pt x="121" y="13"/>
                  </a:lnTo>
                  <a:lnTo>
                    <a:pt x="135" y="6"/>
                  </a:lnTo>
                  <a:lnTo>
                    <a:pt x="144" y="3"/>
                  </a:lnTo>
                  <a:lnTo>
                    <a:pt x="162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 flipH="1">
              <a:off x="549540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6" h="693">
                  <a:moveTo>
                    <a:pt x="173" y="0"/>
                  </a:moveTo>
                  <a:lnTo>
                    <a:pt x="172" y="0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9" y="2"/>
                  </a:lnTo>
                  <a:lnTo>
                    <a:pt x="169" y="4"/>
                  </a:lnTo>
                  <a:lnTo>
                    <a:pt x="169" y="5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200" y="10"/>
                  </a:lnTo>
                  <a:lnTo>
                    <a:pt x="199" y="10"/>
                  </a:lnTo>
                  <a:lnTo>
                    <a:pt x="208" y="13"/>
                  </a:lnTo>
                  <a:lnTo>
                    <a:pt x="207" y="13"/>
                  </a:lnTo>
                  <a:lnTo>
                    <a:pt x="221" y="20"/>
                  </a:lnTo>
                  <a:lnTo>
                    <a:pt x="220" y="19"/>
                  </a:lnTo>
                  <a:lnTo>
                    <a:pt x="251" y="47"/>
                  </a:lnTo>
                  <a:lnTo>
                    <a:pt x="280" y="84"/>
                  </a:lnTo>
                  <a:lnTo>
                    <a:pt x="290" y="104"/>
                  </a:lnTo>
                  <a:lnTo>
                    <a:pt x="301" y="130"/>
                  </a:lnTo>
                  <a:lnTo>
                    <a:pt x="301" y="129"/>
                  </a:lnTo>
                  <a:lnTo>
                    <a:pt x="312" y="157"/>
                  </a:lnTo>
                  <a:lnTo>
                    <a:pt x="321" y="184"/>
                  </a:lnTo>
                  <a:lnTo>
                    <a:pt x="321" y="183"/>
                  </a:lnTo>
                  <a:lnTo>
                    <a:pt x="326" y="212"/>
                  </a:lnTo>
                  <a:lnTo>
                    <a:pt x="337" y="278"/>
                  </a:lnTo>
                  <a:lnTo>
                    <a:pt x="341" y="346"/>
                  </a:lnTo>
                  <a:lnTo>
                    <a:pt x="337" y="417"/>
                  </a:lnTo>
                  <a:lnTo>
                    <a:pt x="337" y="416"/>
                  </a:lnTo>
                  <a:lnTo>
                    <a:pt x="326" y="482"/>
                  </a:lnTo>
                  <a:lnTo>
                    <a:pt x="321" y="510"/>
                  </a:lnTo>
                  <a:lnTo>
                    <a:pt x="321" y="509"/>
                  </a:lnTo>
                  <a:lnTo>
                    <a:pt x="312" y="537"/>
                  </a:lnTo>
                  <a:lnTo>
                    <a:pt x="301" y="567"/>
                  </a:lnTo>
                  <a:lnTo>
                    <a:pt x="301" y="566"/>
                  </a:lnTo>
                  <a:lnTo>
                    <a:pt x="290" y="588"/>
                  </a:lnTo>
                  <a:lnTo>
                    <a:pt x="280" y="610"/>
                  </a:lnTo>
                  <a:lnTo>
                    <a:pt x="251" y="648"/>
                  </a:lnTo>
                  <a:lnTo>
                    <a:pt x="251" y="647"/>
                  </a:lnTo>
                  <a:lnTo>
                    <a:pt x="237" y="661"/>
                  </a:lnTo>
                  <a:lnTo>
                    <a:pt x="221" y="673"/>
                  </a:lnTo>
                  <a:lnTo>
                    <a:pt x="207" y="683"/>
                  </a:lnTo>
                  <a:lnTo>
                    <a:pt x="199" y="686"/>
                  </a:lnTo>
                  <a:lnTo>
                    <a:pt x="200" y="686"/>
                  </a:lnTo>
                  <a:lnTo>
                    <a:pt x="181" y="688"/>
                  </a:lnTo>
                  <a:lnTo>
                    <a:pt x="165" y="688"/>
                  </a:lnTo>
                  <a:lnTo>
                    <a:pt x="148" y="686"/>
                  </a:lnTo>
                  <a:lnTo>
                    <a:pt x="149" y="686"/>
                  </a:lnTo>
                  <a:lnTo>
                    <a:pt x="139" y="683"/>
                  </a:lnTo>
                  <a:lnTo>
                    <a:pt x="140" y="683"/>
                  </a:lnTo>
                  <a:lnTo>
                    <a:pt x="125" y="673"/>
                  </a:lnTo>
                  <a:lnTo>
                    <a:pt x="110" y="661"/>
                  </a:lnTo>
                  <a:lnTo>
                    <a:pt x="94" y="647"/>
                  </a:lnTo>
                  <a:lnTo>
                    <a:pt x="94" y="648"/>
                  </a:lnTo>
                  <a:lnTo>
                    <a:pt x="81" y="631"/>
                  </a:lnTo>
                  <a:lnTo>
                    <a:pt x="81" y="632"/>
                  </a:lnTo>
                  <a:lnTo>
                    <a:pt x="69" y="610"/>
                  </a:lnTo>
                  <a:lnTo>
                    <a:pt x="44" y="566"/>
                  </a:lnTo>
                  <a:lnTo>
                    <a:pt x="44" y="567"/>
                  </a:lnTo>
                  <a:lnTo>
                    <a:pt x="19" y="481"/>
                  </a:lnTo>
                  <a:lnTo>
                    <a:pt x="19" y="482"/>
                  </a:lnTo>
                  <a:lnTo>
                    <a:pt x="14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4" y="245"/>
                  </a:lnTo>
                  <a:lnTo>
                    <a:pt x="19" y="212"/>
                  </a:lnTo>
                  <a:lnTo>
                    <a:pt x="19" y="213"/>
                  </a:lnTo>
                  <a:lnTo>
                    <a:pt x="44" y="129"/>
                  </a:lnTo>
                  <a:lnTo>
                    <a:pt x="44" y="130"/>
                  </a:lnTo>
                  <a:lnTo>
                    <a:pt x="56" y="104"/>
                  </a:lnTo>
                  <a:lnTo>
                    <a:pt x="81" y="63"/>
                  </a:lnTo>
                  <a:lnTo>
                    <a:pt x="94" y="47"/>
                  </a:lnTo>
                  <a:lnTo>
                    <a:pt x="126" y="19"/>
                  </a:lnTo>
                  <a:lnTo>
                    <a:pt x="125" y="20"/>
                  </a:lnTo>
                  <a:lnTo>
                    <a:pt x="139" y="13"/>
                  </a:lnTo>
                  <a:lnTo>
                    <a:pt x="148" y="10"/>
                  </a:lnTo>
                  <a:lnTo>
                    <a:pt x="165" y="6"/>
                  </a:lnTo>
                  <a:lnTo>
                    <a:pt x="174" y="6"/>
                  </a:lnTo>
                  <a:lnTo>
                    <a:pt x="175" y="5"/>
                  </a:lnTo>
                  <a:lnTo>
                    <a:pt x="176" y="4"/>
                  </a:lnTo>
                  <a:lnTo>
                    <a:pt x="176" y="2"/>
                  </a:lnTo>
                  <a:lnTo>
                    <a:pt x="175" y="1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47" y="4"/>
                  </a:lnTo>
                  <a:lnTo>
                    <a:pt x="137" y="8"/>
                  </a:lnTo>
                  <a:lnTo>
                    <a:pt x="122" y="15"/>
                  </a:lnTo>
                  <a:lnTo>
                    <a:pt x="90" y="43"/>
                  </a:lnTo>
                  <a:lnTo>
                    <a:pt x="77" y="60"/>
                  </a:lnTo>
                  <a:lnTo>
                    <a:pt x="51" y="101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8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8" y="451"/>
                  </a:lnTo>
                  <a:lnTo>
                    <a:pt x="13" y="482"/>
                  </a:lnTo>
                  <a:lnTo>
                    <a:pt x="13" y="483"/>
                  </a:lnTo>
                  <a:lnTo>
                    <a:pt x="39" y="568"/>
                  </a:lnTo>
                  <a:lnTo>
                    <a:pt x="39" y="569"/>
                  </a:lnTo>
                  <a:lnTo>
                    <a:pt x="64" y="613"/>
                  </a:lnTo>
                  <a:lnTo>
                    <a:pt x="77" y="634"/>
                  </a:lnTo>
                  <a:lnTo>
                    <a:pt x="90" y="651"/>
                  </a:lnTo>
                  <a:lnTo>
                    <a:pt x="106" y="665"/>
                  </a:lnTo>
                  <a:lnTo>
                    <a:pt x="122" y="677"/>
                  </a:lnTo>
                  <a:lnTo>
                    <a:pt x="122" y="678"/>
                  </a:lnTo>
                  <a:lnTo>
                    <a:pt x="137" y="688"/>
                  </a:lnTo>
                  <a:lnTo>
                    <a:pt x="146" y="691"/>
                  </a:lnTo>
                  <a:lnTo>
                    <a:pt x="147" y="692"/>
                  </a:lnTo>
                  <a:lnTo>
                    <a:pt x="165" y="693"/>
                  </a:lnTo>
                  <a:lnTo>
                    <a:pt x="181" y="693"/>
                  </a:lnTo>
                  <a:lnTo>
                    <a:pt x="200" y="692"/>
                  </a:lnTo>
                  <a:lnTo>
                    <a:pt x="201" y="691"/>
                  </a:lnTo>
                  <a:lnTo>
                    <a:pt x="210" y="688"/>
                  </a:lnTo>
                  <a:lnTo>
                    <a:pt x="224" y="678"/>
                  </a:lnTo>
                  <a:lnTo>
                    <a:pt x="224" y="677"/>
                  </a:lnTo>
                  <a:lnTo>
                    <a:pt x="241" y="665"/>
                  </a:lnTo>
                  <a:lnTo>
                    <a:pt x="256" y="651"/>
                  </a:lnTo>
                  <a:lnTo>
                    <a:pt x="285" y="613"/>
                  </a:lnTo>
                  <a:lnTo>
                    <a:pt x="296" y="591"/>
                  </a:lnTo>
                  <a:lnTo>
                    <a:pt x="307" y="569"/>
                  </a:lnTo>
                  <a:lnTo>
                    <a:pt x="307" y="568"/>
                  </a:lnTo>
                  <a:lnTo>
                    <a:pt x="317" y="539"/>
                  </a:lnTo>
                  <a:lnTo>
                    <a:pt x="327" y="511"/>
                  </a:lnTo>
                  <a:lnTo>
                    <a:pt x="332" y="482"/>
                  </a:lnTo>
                  <a:lnTo>
                    <a:pt x="343" y="417"/>
                  </a:lnTo>
                  <a:lnTo>
                    <a:pt x="346" y="346"/>
                  </a:lnTo>
                  <a:lnTo>
                    <a:pt x="343" y="278"/>
                  </a:lnTo>
                  <a:lnTo>
                    <a:pt x="343" y="277"/>
                  </a:lnTo>
                  <a:lnTo>
                    <a:pt x="332" y="212"/>
                  </a:lnTo>
                  <a:lnTo>
                    <a:pt x="327" y="183"/>
                  </a:lnTo>
                  <a:lnTo>
                    <a:pt x="327" y="182"/>
                  </a:lnTo>
                  <a:lnTo>
                    <a:pt x="317" y="155"/>
                  </a:lnTo>
                  <a:lnTo>
                    <a:pt x="307" y="128"/>
                  </a:lnTo>
                  <a:lnTo>
                    <a:pt x="307" y="127"/>
                  </a:lnTo>
                  <a:lnTo>
                    <a:pt x="297" y="101"/>
                  </a:lnTo>
                  <a:lnTo>
                    <a:pt x="296" y="101"/>
                  </a:lnTo>
                  <a:lnTo>
                    <a:pt x="285" y="81"/>
                  </a:lnTo>
                  <a:lnTo>
                    <a:pt x="256" y="43"/>
                  </a:lnTo>
                  <a:lnTo>
                    <a:pt x="224" y="15"/>
                  </a:lnTo>
                  <a:lnTo>
                    <a:pt x="210" y="8"/>
                  </a:lnTo>
                  <a:lnTo>
                    <a:pt x="209" y="8"/>
                  </a:lnTo>
                  <a:lnTo>
                    <a:pt x="201" y="4"/>
                  </a:lnTo>
                  <a:lnTo>
                    <a:pt x="200" y="4"/>
                  </a:lnTo>
                  <a:lnTo>
                    <a:pt x="181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 flipH="1">
              <a:off x="5357160" y="3379680"/>
              <a:ext cx="45000" cy="84240"/>
            </a:xfrm>
            <a:custGeom>
              <a:avLst/>
              <a:gdLst/>
              <a:ahLst/>
              <a:rect l="l" t="t" r="r" b="b"/>
              <a:pathLst>
                <a:path w="341" h="689">
                  <a:moveTo>
                    <a:pt x="173" y="0"/>
                  </a:moveTo>
                  <a:lnTo>
                    <a:pt x="180" y="0"/>
                  </a:lnTo>
                  <a:lnTo>
                    <a:pt x="198" y="5"/>
                  </a:lnTo>
                  <a:lnTo>
                    <a:pt x="207" y="8"/>
                  </a:lnTo>
                  <a:lnTo>
                    <a:pt x="222" y="15"/>
                  </a:lnTo>
                  <a:lnTo>
                    <a:pt x="237" y="26"/>
                  </a:lnTo>
                  <a:lnTo>
                    <a:pt x="252" y="42"/>
                  </a:lnTo>
                  <a:lnTo>
                    <a:pt x="266" y="59"/>
                  </a:lnTo>
                  <a:lnTo>
                    <a:pt x="292" y="100"/>
                  </a:lnTo>
                  <a:lnTo>
                    <a:pt x="303" y="126"/>
                  </a:lnTo>
                  <a:lnTo>
                    <a:pt x="312" y="152"/>
                  </a:lnTo>
                  <a:lnTo>
                    <a:pt x="329" y="209"/>
                  </a:lnTo>
                  <a:lnTo>
                    <a:pt x="335" y="242"/>
                  </a:lnTo>
                  <a:lnTo>
                    <a:pt x="341" y="309"/>
                  </a:lnTo>
                  <a:lnTo>
                    <a:pt x="341" y="379"/>
                  </a:lnTo>
                  <a:lnTo>
                    <a:pt x="336" y="412"/>
                  </a:lnTo>
                  <a:lnTo>
                    <a:pt x="335" y="447"/>
                  </a:lnTo>
                  <a:lnTo>
                    <a:pt x="329" y="478"/>
                  </a:lnTo>
                  <a:lnTo>
                    <a:pt x="312" y="535"/>
                  </a:lnTo>
                  <a:lnTo>
                    <a:pt x="303" y="563"/>
                  </a:lnTo>
                  <a:lnTo>
                    <a:pt x="279" y="609"/>
                  </a:lnTo>
                  <a:lnTo>
                    <a:pt x="266" y="630"/>
                  </a:lnTo>
                  <a:lnTo>
                    <a:pt x="252" y="645"/>
                  </a:lnTo>
                  <a:lnTo>
                    <a:pt x="237" y="660"/>
                  </a:lnTo>
                  <a:lnTo>
                    <a:pt x="222" y="673"/>
                  </a:lnTo>
                  <a:lnTo>
                    <a:pt x="207" y="683"/>
                  </a:lnTo>
                  <a:lnTo>
                    <a:pt x="198" y="684"/>
                  </a:lnTo>
                  <a:lnTo>
                    <a:pt x="190" y="688"/>
                  </a:lnTo>
                  <a:lnTo>
                    <a:pt x="180" y="689"/>
                  </a:lnTo>
                  <a:lnTo>
                    <a:pt x="164" y="689"/>
                  </a:lnTo>
                  <a:lnTo>
                    <a:pt x="155" y="688"/>
                  </a:lnTo>
                  <a:lnTo>
                    <a:pt x="146" y="684"/>
                  </a:lnTo>
                  <a:lnTo>
                    <a:pt x="137" y="683"/>
                  </a:lnTo>
                  <a:lnTo>
                    <a:pt x="123" y="673"/>
                  </a:lnTo>
                  <a:lnTo>
                    <a:pt x="106" y="660"/>
                  </a:lnTo>
                  <a:lnTo>
                    <a:pt x="90" y="645"/>
                  </a:lnTo>
                  <a:lnTo>
                    <a:pt x="77" y="630"/>
                  </a:lnTo>
                  <a:lnTo>
                    <a:pt x="63" y="609"/>
                  </a:lnTo>
                  <a:lnTo>
                    <a:pt x="50" y="586"/>
                  </a:lnTo>
                  <a:lnTo>
                    <a:pt x="31" y="535"/>
                  </a:lnTo>
                  <a:lnTo>
                    <a:pt x="22" y="508"/>
                  </a:lnTo>
                  <a:lnTo>
                    <a:pt x="15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5" y="209"/>
                  </a:lnTo>
                  <a:lnTo>
                    <a:pt x="22" y="180"/>
                  </a:lnTo>
                  <a:lnTo>
                    <a:pt x="31" y="152"/>
                  </a:lnTo>
                  <a:lnTo>
                    <a:pt x="50" y="100"/>
                  </a:lnTo>
                  <a:lnTo>
                    <a:pt x="63" y="80"/>
                  </a:lnTo>
                  <a:lnTo>
                    <a:pt x="90" y="42"/>
                  </a:lnTo>
                  <a:lnTo>
                    <a:pt x="106" y="26"/>
                  </a:lnTo>
                  <a:lnTo>
                    <a:pt x="123" y="15"/>
                  </a:lnTo>
                  <a:lnTo>
                    <a:pt x="137" y="8"/>
                  </a:lnTo>
                  <a:lnTo>
                    <a:pt x="146" y="5"/>
                  </a:lnTo>
                  <a:lnTo>
                    <a:pt x="164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 flipH="1">
              <a:off x="5357160" y="3379680"/>
              <a:ext cx="45000" cy="85680"/>
            </a:xfrm>
            <a:custGeom>
              <a:avLst/>
              <a:gdLst/>
              <a:ahLst/>
              <a:rect l="l" t="t" r="r" b="b"/>
              <a:pathLst>
                <a:path w="347" h="695">
                  <a:moveTo>
                    <a:pt x="176" y="0"/>
                  </a:moveTo>
                  <a:lnTo>
                    <a:pt x="175" y="0"/>
                  </a:lnTo>
                  <a:lnTo>
                    <a:pt x="174" y="1"/>
                  </a:lnTo>
                  <a:lnTo>
                    <a:pt x="173" y="2"/>
                  </a:lnTo>
                  <a:lnTo>
                    <a:pt x="173" y="4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5" y="7"/>
                  </a:lnTo>
                  <a:lnTo>
                    <a:pt x="183" y="7"/>
                  </a:lnTo>
                  <a:lnTo>
                    <a:pt x="201" y="10"/>
                  </a:lnTo>
                  <a:lnTo>
                    <a:pt x="200" y="10"/>
                  </a:lnTo>
                  <a:lnTo>
                    <a:pt x="209" y="14"/>
                  </a:lnTo>
                  <a:lnTo>
                    <a:pt x="209" y="13"/>
                  </a:lnTo>
                  <a:lnTo>
                    <a:pt x="224" y="20"/>
                  </a:lnTo>
                  <a:lnTo>
                    <a:pt x="223" y="20"/>
                  </a:lnTo>
                  <a:lnTo>
                    <a:pt x="239" y="31"/>
                  </a:lnTo>
                  <a:lnTo>
                    <a:pt x="238" y="31"/>
                  </a:lnTo>
                  <a:lnTo>
                    <a:pt x="253" y="47"/>
                  </a:lnTo>
                  <a:lnTo>
                    <a:pt x="267" y="64"/>
                  </a:lnTo>
                  <a:lnTo>
                    <a:pt x="292" y="104"/>
                  </a:lnTo>
                  <a:lnTo>
                    <a:pt x="303" y="130"/>
                  </a:lnTo>
                  <a:lnTo>
                    <a:pt x="311" y="156"/>
                  </a:lnTo>
                  <a:lnTo>
                    <a:pt x="330" y="213"/>
                  </a:lnTo>
                  <a:lnTo>
                    <a:pt x="335" y="246"/>
                  </a:lnTo>
                  <a:lnTo>
                    <a:pt x="340" y="313"/>
                  </a:lnTo>
                  <a:lnTo>
                    <a:pt x="340" y="312"/>
                  </a:lnTo>
                  <a:lnTo>
                    <a:pt x="340" y="382"/>
                  </a:lnTo>
                  <a:lnTo>
                    <a:pt x="336" y="415"/>
                  </a:lnTo>
                  <a:lnTo>
                    <a:pt x="335" y="450"/>
                  </a:lnTo>
                  <a:lnTo>
                    <a:pt x="335" y="449"/>
                  </a:lnTo>
                  <a:lnTo>
                    <a:pt x="330" y="481"/>
                  </a:lnTo>
                  <a:lnTo>
                    <a:pt x="330" y="480"/>
                  </a:lnTo>
                  <a:lnTo>
                    <a:pt x="311" y="538"/>
                  </a:lnTo>
                  <a:lnTo>
                    <a:pt x="303" y="565"/>
                  </a:lnTo>
                  <a:lnTo>
                    <a:pt x="280" y="611"/>
                  </a:lnTo>
                  <a:lnTo>
                    <a:pt x="280" y="610"/>
                  </a:lnTo>
                  <a:lnTo>
                    <a:pt x="267" y="631"/>
                  </a:lnTo>
                  <a:lnTo>
                    <a:pt x="238" y="661"/>
                  </a:lnTo>
                  <a:lnTo>
                    <a:pt x="239" y="661"/>
                  </a:lnTo>
                  <a:lnTo>
                    <a:pt x="223" y="674"/>
                  </a:lnTo>
                  <a:lnTo>
                    <a:pt x="223" y="673"/>
                  </a:lnTo>
                  <a:lnTo>
                    <a:pt x="209" y="683"/>
                  </a:lnTo>
                  <a:lnTo>
                    <a:pt x="210" y="683"/>
                  </a:lnTo>
                  <a:lnTo>
                    <a:pt x="201" y="684"/>
                  </a:lnTo>
                  <a:lnTo>
                    <a:pt x="200" y="685"/>
                  </a:lnTo>
                  <a:lnTo>
                    <a:pt x="190" y="688"/>
                  </a:lnTo>
                  <a:lnTo>
                    <a:pt x="192" y="688"/>
                  </a:lnTo>
                  <a:lnTo>
                    <a:pt x="183" y="690"/>
                  </a:lnTo>
                  <a:lnTo>
                    <a:pt x="167" y="690"/>
                  </a:lnTo>
                  <a:lnTo>
                    <a:pt x="168" y="690"/>
                  </a:lnTo>
                  <a:lnTo>
                    <a:pt x="158" y="688"/>
                  </a:lnTo>
                  <a:lnTo>
                    <a:pt x="159" y="688"/>
                  </a:lnTo>
                  <a:lnTo>
                    <a:pt x="150" y="685"/>
                  </a:lnTo>
                  <a:lnTo>
                    <a:pt x="149" y="684"/>
                  </a:lnTo>
                  <a:lnTo>
                    <a:pt x="141" y="683"/>
                  </a:lnTo>
                  <a:lnTo>
                    <a:pt x="142" y="683"/>
                  </a:lnTo>
                  <a:lnTo>
                    <a:pt x="128" y="673"/>
                  </a:lnTo>
                  <a:lnTo>
                    <a:pt x="128" y="674"/>
                  </a:lnTo>
                  <a:lnTo>
                    <a:pt x="111" y="661"/>
                  </a:lnTo>
                  <a:lnTo>
                    <a:pt x="112" y="661"/>
                  </a:lnTo>
                  <a:lnTo>
                    <a:pt x="95" y="646"/>
                  </a:lnTo>
                  <a:lnTo>
                    <a:pt x="82" y="631"/>
                  </a:lnTo>
                  <a:lnTo>
                    <a:pt x="68" y="610"/>
                  </a:lnTo>
                  <a:lnTo>
                    <a:pt x="68" y="611"/>
                  </a:lnTo>
                  <a:lnTo>
                    <a:pt x="56" y="588"/>
                  </a:lnTo>
                  <a:lnTo>
                    <a:pt x="57" y="588"/>
                  </a:lnTo>
                  <a:lnTo>
                    <a:pt x="37" y="538"/>
                  </a:lnTo>
                  <a:lnTo>
                    <a:pt x="27" y="510"/>
                  </a:lnTo>
                  <a:lnTo>
                    <a:pt x="21" y="480"/>
                  </a:lnTo>
                  <a:lnTo>
                    <a:pt x="21" y="481"/>
                  </a:lnTo>
                  <a:lnTo>
                    <a:pt x="11" y="415"/>
                  </a:lnTo>
                  <a:lnTo>
                    <a:pt x="6" y="346"/>
                  </a:lnTo>
                  <a:lnTo>
                    <a:pt x="6" y="347"/>
                  </a:lnTo>
                  <a:lnTo>
                    <a:pt x="11" y="278"/>
                  </a:lnTo>
                  <a:lnTo>
                    <a:pt x="21" y="213"/>
                  </a:lnTo>
                  <a:lnTo>
                    <a:pt x="27" y="184"/>
                  </a:lnTo>
                  <a:lnTo>
                    <a:pt x="37" y="156"/>
                  </a:lnTo>
                  <a:lnTo>
                    <a:pt x="57" y="103"/>
                  </a:lnTo>
                  <a:lnTo>
                    <a:pt x="56" y="104"/>
                  </a:lnTo>
                  <a:lnTo>
                    <a:pt x="68" y="84"/>
                  </a:lnTo>
                  <a:lnTo>
                    <a:pt x="95" y="47"/>
                  </a:lnTo>
                  <a:lnTo>
                    <a:pt x="112" y="31"/>
                  </a:lnTo>
                  <a:lnTo>
                    <a:pt x="111" y="31"/>
                  </a:lnTo>
                  <a:lnTo>
                    <a:pt x="128" y="20"/>
                  </a:lnTo>
                  <a:lnTo>
                    <a:pt x="127" y="20"/>
                  </a:lnTo>
                  <a:lnTo>
                    <a:pt x="142" y="13"/>
                  </a:lnTo>
                  <a:lnTo>
                    <a:pt x="141" y="14"/>
                  </a:lnTo>
                  <a:lnTo>
                    <a:pt x="149" y="10"/>
                  </a:lnTo>
                  <a:lnTo>
                    <a:pt x="168" y="7"/>
                  </a:lnTo>
                  <a:lnTo>
                    <a:pt x="167" y="7"/>
                  </a:lnTo>
                  <a:lnTo>
                    <a:pt x="176" y="7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79" y="4"/>
                  </a:lnTo>
                  <a:lnTo>
                    <a:pt x="179" y="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8" y="4"/>
                  </a:lnTo>
                  <a:lnTo>
                    <a:pt x="140" y="8"/>
                  </a:lnTo>
                  <a:lnTo>
                    <a:pt x="139" y="8"/>
                  </a:lnTo>
                  <a:lnTo>
                    <a:pt x="125" y="15"/>
                  </a:lnTo>
                  <a:lnTo>
                    <a:pt x="124" y="15"/>
                  </a:lnTo>
                  <a:lnTo>
                    <a:pt x="107" y="27"/>
                  </a:lnTo>
                  <a:lnTo>
                    <a:pt x="91" y="43"/>
                  </a:lnTo>
                  <a:lnTo>
                    <a:pt x="90" y="43"/>
                  </a:lnTo>
                  <a:lnTo>
                    <a:pt x="64" y="81"/>
                  </a:lnTo>
                  <a:lnTo>
                    <a:pt x="51" y="101"/>
                  </a:lnTo>
                  <a:lnTo>
                    <a:pt x="50" y="102"/>
                  </a:lnTo>
                  <a:lnTo>
                    <a:pt x="31" y="154"/>
                  </a:lnTo>
                  <a:lnTo>
                    <a:pt x="22" y="183"/>
                  </a:lnTo>
                  <a:lnTo>
                    <a:pt x="14" y="212"/>
                  </a:lnTo>
                  <a:lnTo>
                    <a:pt x="6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6" y="416"/>
                  </a:lnTo>
                  <a:lnTo>
                    <a:pt x="14" y="481"/>
                  </a:lnTo>
                  <a:lnTo>
                    <a:pt x="14" y="483"/>
                  </a:lnTo>
                  <a:lnTo>
                    <a:pt x="22" y="511"/>
                  </a:lnTo>
                  <a:lnTo>
                    <a:pt x="31" y="539"/>
                  </a:lnTo>
                  <a:lnTo>
                    <a:pt x="50" y="590"/>
                  </a:lnTo>
                  <a:lnTo>
                    <a:pt x="51" y="590"/>
                  </a:lnTo>
                  <a:lnTo>
                    <a:pt x="64" y="613"/>
                  </a:lnTo>
                  <a:lnTo>
                    <a:pt x="64" y="614"/>
                  </a:lnTo>
                  <a:lnTo>
                    <a:pt x="78" y="634"/>
                  </a:lnTo>
                  <a:lnTo>
                    <a:pt x="91" y="649"/>
                  </a:lnTo>
                  <a:lnTo>
                    <a:pt x="91" y="650"/>
                  </a:lnTo>
                  <a:lnTo>
                    <a:pt x="107" y="665"/>
                  </a:lnTo>
                  <a:lnTo>
                    <a:pt x="124" y="678"/>
                  </a:lnTo>
                  <a:lnTo>
                    <a:pt x="139" y="688"/>
                  </a:lnTo>
                  <a:lnTo>
                    <a:pt x="140" y="688"/>
                  </a:lnTo>
                  <a:lnTo>
                    <a:pt x="148" y="690"/>
                  </a:lnTo>
                  <a:lnTo>
                    <a:pt x="157" y="693"/>
                  </a:lnTo>
                  <a:lnTo>
                    <a:pt x="158" y="694"/>
                  </a:lnTo>
                  <a:lnTo>
                    <a:pt x="167" y="695"/>
                  </a:lnTo>
                  <a:lnTo>
                    <a:pt x="183" y="695"/>
                  </a:lnTo>
                  <a:lnTo>
                    <a:pt x="193" y="694"/>
                  </a:lnTo>
                  <a:lnTo>
                    <a:pt x="194" y="693"/>
                  </a:lnTo>
                  <a:lnTo>
                    <a:pt x="202" y="690"/>
                  </a:lnTo>
                  <a:lnTo>
                    <a:pt x="201" y="690"/>
                  </a:lnTo>
                  <a:lnTo>
                    <a:pt x="211" y="688"/>
                  </a:lnTo>
                  <a:lnTo>
                    <a:pt x="212" y="688"/>
                  </a:lnTo>
                  <a:lnTo>
                    <a:pt x="226" y="678"/>
                  </a:lnTo>
                  <a:lnTo>
                    <a:pt x="242" y="665"/>
                  </a:lnTo>
                  <a:lnTo>
                    <a:pt x="271" y="635"/>
                  </a:lnTo>
                  <a:lnTo>
                    <a:pt x="272" y="634"/>
                  </a:lnTo>
                  <a:lnTo>
                    <a:pt x="285" y="614"/>
                  </a:lnTo>
                  <a:lnTo>
                    <a:pt x="285" y="613"/>
                  </a:lnTo>
                  <a:lnTo>
                    <a:pt x="308" y="567"/>
                  </a:lnTo>
                  <a:lnTo>
                    <a:pt x="318" y="539"/>
                  </a:lnTo>
                  <a:lnTo>
                    <a:pt x="335" y="483"/>
                  </a:lnTo>
                  <a:lnTo>
                    <a:pt x="335" y="481"/>
                  </a:lnTo>
                  <a:lnTo>
                    <a:pt x="340" y="450"/>
                  </a:lnTo>
                  <a:lnTo>
                    <a:pt x="343" y="415"/>
                  </a:lnTo>
                  <a:lnTo>
                    <a:pt x="343" y="416"/>
                  </a:lnTo>
                  <a:lnTo>
                    <a:pt x="347" y="383"/>
                  </a:lnTo>
                  <a:lnTo>
                    <a:pt x="347" y="382"/>
                  </a:lnTo>
                  <a:lnTo>
                    <a:pt x="347" y="312"/>
                  </a:lnTo>
                  <a:lnTo>
                    <a:pt x="340" y="245"/>
                  </a:lnTo>
                  <a:lnTo>
                    <a:pt x="335" y="212"/>
                  </a:lnTo>
                  <a:lnTo>
                    <a:pt x="318" y="154"/>
                  </a:lnTo>
                  <a:lnTo>
                    <a:pt x="308" y="128"/>
                  </a:lnTo>
                  <a:lnTo>
                    <a:pt x="297" y="101"/>
                  </a:lnTo>
                  <a:lnTo>
                    <a:pt x="272" y="60"/>
                  </a:lnTo>
                  <a:lnTo>
                    <a:pt x="271" y="60"/>
                  </a:lnTo>
                  <a:lnTo>
                    <a:pt x="257" y="43"/>
                  </a:lnTo>
                  <a:lnTo>
                    <a:pt x="242" y="27"/>
                  </a:lnTo>
                  <a:lnTo>
                    <a:pt x="226" y="15"/>
                  </a:lnTo>
                  <a:lnTo>
                    <a:pt x="211" y="8"/>
                  </a:lnTo>
                  <a:lnTo>
                    <a:pt x="202" y="4"/>
                  </a:lnTo>
                  <a:lnTo>
                    <a:pt x="201" y="4"/>
                  </a:lnTo>
                  <a:lnTo>
                    <a:pt x="183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25" h="896">
                  <a:moveTo>
                    <a:pt x="65" y="432"/>
                  </a:moveTo>
                  <a:lnTo>
                    <a:pt x="95" y="480"/>
                  </a:lnTo>
                  <a:lnTo>
                    <a:pt x="157" y="565"/>
                  </a:lnTo>
                  <a:lnTo>
                    <a:pt x="189" y="603"/>
                  </a:lnTo>
                  <a:lnTo>
                    <a:pt x="222" y="638"/>
                  </a:lnTo>
                  <a:lnTo>
                    <a:pt x="285" y="702"/>
                  </a:lnTo>
                  <a:lnTo>
                    <a:pt x="353" y="757"/>
                  </a:lnTo>
                  <a:lnTo>
                    <a:pt x="386" y="781"/>
                  </a:lnTo>
                  <a:lnTo>
                    <a:pt x="420" y="802"/>
                  </a:lnTo>
                  <a:lnTo>
                    <a:pt x="486" y="836"/>
                  </a:lnTo>
                  <a:lnTo>
                    <a:pt x="523" y="851"/>
                  </a:lnTo>
                  <a:lnTo>
                    <a:pt x="556" y="863"/>
                  </a:lnTo>
                  <a:lnTo>
                    <a:pt x="593" y="874"/>
                  </a:lnTo>
                  <a:lnTo>
                    <a:pt x="661" y="889"/>
                  </a:lnTo>
                  <a:lnTo>
                    <a:pt x="698" y="894"/>
                  </a:lnTo>
                  <a:lnTo>
                    <a:pt x="769" y="896"/>
                  </a:lnTo>
                  <a:lnTo>
                    <a:pt x="805" y="896"/>
                  </a:lnTo>
                  <a:lnTo>
                    <a:pt x="875" y="891"/>
                  </a:lnTo>
                  <a:lnTo>
                    <a:pt x="945" y="877"/>
                  </a:lnTo>
                  <a:lnTo>
                    <a:pt x="984" y="868"/>
                  </a:lnTo>
                  <a:lnTo>
                    <a:pt x="1055" y="850"/>
                  </a:lnTo>
                  <a:lnTo>
                    <a:pt x="1125" y="822"/>
                  </a:lnTo>
                  <a:lnTo>
                    <a:pt x="1161" y="809"/>
                  </a:lnTo>
                  <a:lnTo>
                    <a:pt x="1268" y="758"/>
                  </a:lnTo>
                  <a:lnTo>
                    <a:pt x="1301" y="740"/>
                  </a:lnTo>
                  <a:lnTo>
                    <a:pt x="1372" y="701"/>
                  </a:lnTo>
                  <a:lnTo>
                    <a:pt x="1442" y="658"/>
                  </a:lnTo>
                  <a:lnTo>
                    <a:pt x="1508" y="614"/>
                  </a:lnTo>
                  <a:lnTo>
                    <a:pt x="1577" y="565"/>
                  </a:lnTo>
                  <a:lnTo>
                    <a:pt x="1707" y="466"/>
                  </a:lnTo>
                  <a:lnTo>
                    <a:pt x="1772" y="416"/>
                  </a:lnTo>
                  <a:lnTo>
                    <a:pt x="1951" y="264"/>
                  </a:lnTo>
                  <a:lnTo>
                    <a:pt x="2061" y="165"/>
                  </a:lnTo>
                  <a:lnTo>
                    <a:pt x="2164" y="77"/>
                  </a:lnTo>
                  <a:lnTo>
                    <a:pt x="2174" y="95"/>
                  </a:lnTo>
                  <a:lnTo>
                    <a:pt x="2187" y="110"/>
                  </a:lnTo>
                  <a:lnTo>
                    <a:pt x="2193" y="114"/>
                  </a:lnTo>
                  <a:lnTo>
                    <a:pt x="2200" y="116"/>
                  </a:lnTo>
                  <a:lnTo>
                    <a:pt x="2205" y="118"/>
                  </a:lnTo>
                  <a:lnTo>
                    <a:pt x="2210" y="116"/>
                  </a:lnTo>
                  <a:lnTo>
                    <a:pt x="2216" y="113"/>
                  </a:lnTo>
                  <a:lnTo>
                    <a:pt x="2221" y="108"/>
                  </a:lnTo>
                  <a:lnTo>
                    <a:pt x="2225" y="94"/>
                  </a:lnTo>
                  <a:lnTo>
                    <a:pt x="2225" y="83"/>
                  </a:lnTo>
                  <a:lnTo>
                    <a:pt x="2223" y="72"/>
                  </a:lnTo>
                  <a:lnTo>
                    <a:pt x="2216" y="49"/>
                  </a:lnTo>
                  <a:lnTo>
                    <a:pt x="2210" y="37"/>
                  </a:lnTo>
                  <a:lnTo>
                    <a:pt x="2196" y="18"/>
                  </a:lnTo>
                  <a:lnTo>
                    <a:pt x="2184" y="5"/>
                  </a:lnTo>
                  <a:lnTo>
                    <a:pt x="2176" y="1"/>
                  </a:lnTo>
                  <a:lnTo>
                    <a:pt x="2171" y="0"/>
                  </a:lnTo>
                  <a:lnTo>
                    <a:pt x="2164" y="1"/>
                  </a:lnTo>
                  <a:lnTo>
                    <a:pt x="2158" y="3"/>
                  </a:lnTo>
                  <a:lnTo>
                    <a:pt x="2155" y="8"/>
                  </a:lnTo>
                  <a:lnTo>
                    <a:pt x="2151" y="20"/>
                  </a:lnTo>
                  <a:lnTo>
                    <a:pt x="2151" y="37"/>
                  </a:lnTo>
                  <a:lnTo>
                    <a:pt x="2155" y="57"/>
                  </a:lnTo>
                  <a:lnTo>
                    <a:pt x="2153" y="57"/>
                  </a:lnTo>
                  <a:lnTo>
                    <a:pt x="2148" y="59"/>
                  </a:lnTo>
                  <a:lnTo>
                    <a:pt x="2147" y="59"/>
                  </a:lnTo>
                  <a:lnTo>
                    <a:pt x="2147" y="64"/>
                  </a:lnTo>
                  <a:lnTo>
                    <a:pt x="1967" y="224"/>
                  </a:lnTo>
                  <a:lnTo>
                    <a:pt x="1913" y="270"/>
                  </a:lnTo>
                  <a:lnTo>
                    <a:pt x="1860" y="316"/>
                  </a:lnTo>
                  <a:lnTo>
                    <a:pt x="1802" y="363"/>
                  </a:lnTo>
                  <a:lnTo>
                    <a:pt x="1743" y="409"/>
                  </a:lnTo>
                  <a:lnTo>
                    <a:pt x="1681" y="453"/>
                  </a:lnTo>
                  <a:lnTo>
                    <a:pt x="1616" y="498"/>
                  </a:lnTo>
                  <a:lnTo>
                    <a:pt x="1551" y="543"/>
                  </a:lnTo>
                  <a:lnTo>
                    <a:pt x="1487" y="584"/>
                  </a:lnTo>
                  <a:lnTo>
                    <a:pt x="1417" y="625"/>
                  </a:lnTo>
                  <a:lnTo>
                    <a:pt x="1349" y="663"/>
                  </a:lnTo>
                  <a:lnTo>
                    <a:pt x="1312" y="680"/>
                  </a:lnTo>
                  <a:lnTo>
                    <a:pt x="1276" y="697"/>
                  </a:lnTo>
                  <a:lnTo>
                    <a:pt x="1242" y="712"/>
                  </a:lnTo>
                  <a:lnTo>
                    <a:pt x="1206" y="730"/>
                  </a:lnTo>
                  <a:lnTo>
                    <a:pt x="1098" y="769"/>
                  </a:lnTo>
                  <a:lnTo>
                    <a:pt x="1025" y="788"/>
                  </a:lnTo>
                  <a:lnTo>
                    <a:pt x="951" y="805"/>
                  </a:lnTo>
                  <a:lnTo>
                    <a:pt x="877" y="816"/>
                  </a:lnTo>
                  <a:lnTo>
                    <a:pt x="841" y="817"/>
                  </a:lnTo>
                  <a:lnTo>
                    <a:pt x="805" y="820"/>
                  </a:lnTo>
                  <a:lnTo>
                    <a:pt x="769" y="820"/>
                  </a:lnTo>
                  <a:lnTo>
                    <a:pt x="733" y="817"/>
                  </a:lnTo>
                  <a:lnTo>
                    <a:pt x="658" y="812"/>
                  </a:lnTo>
                  <a:lnTo>
                    <a:pt x="621" y="805"/>
                  </a:lnTo>
                  <a:lnTo>
                    <a:pt x="551" y="785"/>
                  </a:lnTo>
                  <a:lnTo>
                    <a:pt x="515" y="773"/>
                  </a:lnTo>
                  <a:lnTo>
                    <a:pt x="480" y="758"/>
                  </a:lnTo>
                  <a:lnTo>
                    <a:pt x="408" y="725"/>
                  </a:lnTo>
                  <a:lnTo>
                    <a:pt x="375" y="704"/>
                  </a:lnTo>
                  <a:lnTo>
                    <a:pt x="306" y="658"/>
                  </a:lnTo>
                  <a:lnTo>
                    <a:pt x="272" y="630"/>
                  </a:lnTo>
                  <a:lnTo>
                    <a:pt x="238" y="601"/>
                  </a:lnTo>
                  <a:lnTo>
                    <a:pt x="205" y="568"/>
                  </a:lnTo>
                  <a:lnTo>
                    <a:pt x="141" y="498"/>
                  </a:lnTo>
                  <a:lnTo>
                    <a:pt x="108" y="457"/>
                  </a:lnTo>
                  <a:lnTo>
                    <a:pt x="78" y="418"/>
                  </a:lnTo>
                  <a:lnTo>
                    <a:pt x="78" y="416"/>
                  </a:lnTo>
                  <a:lnTo>
                    <a:pt x="76" y="416"/>
                  </a:lnTo>
                  <a:lnTo>
                    <a:pt x="76" y="414"/>
                  </a:lnTo>
                  <a:lnTo>
                    <a:pt x="75" y="414"/>
                  </a:lnTo>
                  <a:lnTo>
                    <a:pt x="81" y="398"/>
                  </a:lnTo>
                  <a:lnTo>
                    <a:pt x="87" y="382"/>
                  </a:lnTo>
                  <a:lnTo>
                    <a:pt x="91" y="370"/>
                  </a:lnTo>
                  <a:lnTo>
                    <a:pt x="92" y="356"/>
                  </a:lnTo>
                  <a:lnTo>
                    <a:pt x="94" y="346"/>
                  </a:lnTo>
                  <a:lnTo>
                    <a:pt x="91" y="332"/>
                  </a:lnTo>
                  <a:lnTo>
                    <a:pt x="85" y="327"/>
                  </a:lnTo>
                  <a:lnTo>
                    <a:pt x="78" y="327"/>
                  </a:lnTo>
                  <a:lnTo>
                    <a:pt x="71" y="329"/>
                  </a:lnTo>
                  <a:lnTo>
                    <a:pt x="65" y="334"/>
                  </a:lnTo>
                  <a:lnTo>
                    <a:pt x="57" y="342"/>
                  </a:lnTo>
                  <a:lnTo>
                    <a:pt x="47" y="351"/>
                  </a:lnTo>
                  <a:lnTo>
                    <a:pt x="30" y="378"/>
                  </a:lnTo>
                  <a:lnTo>
                    <a:pt x="14" y="409"/>
                  </a:lnTo>
                  <a:lnTo>
                    <a:pt x="9" y="424"/>
                  </a:lnTo>
                  <a:lnTo>
                    <a:pt x="5" y="438"/>
                  </a:lnTo>
                  <a:lnTo>
                    <a:pt x="0" y="462"/>
                  </a:lnTo>
                  <a:lnTo>
                    <a:pt x="5" y="480"/>
                  </a:lnTo>
                  <a:lnTo>
                    <a:pt x="9" y="483"/>
                  </a:lnTo>
                  <a:lnTo>
                    <a:pt x="14" y="483"/>
                  </a:lnTo>
                  <a:lnTo>
                    <a:pt x="22" y="481"/>
                  </a:lnTo>
                  <a:lnTo>
                    <a:pt x="35" y="473"/>
                  </a:lnTo>
                  <a:lnTo>
                    <a:pt x="51" y="453"/>
                  </a:lnTo>
                  <a:lnTo>
                    <a:pt x="59" y="445"/>
                  </a:lnTo>
                  <a:lnTo>
                    <a:pt x="65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 flipH="1">
              <a:off x="5295240" y="3484440"/>
              <a:ext cx="286920" cy="109440"/>
            </a:xfrm>
            <a:custGeom>
              <a:avLst/>
              <a:gdLst/>
              <a:ahLst/>
              <a:rect l="l" t="t" r="r" b="b"/>
              <a:pathLst>
                <a:path w="2231" h="901">
                  <a:moveTo>
                    <a:pt x="71" y="433"/>
                  </a:move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66" y="434"/>
                  </a:lnTo>
                  <a:lnTo>
                    <a:pt x="66" y="435"/>
                  </a:lnTo>
                  <a:lnTo>
                    <a:pt x="66" y="436"/>
                  </a:lnTo>
                  <a:lnTo>
                    <a:pt x="96" y="484"/>
                  </a:lnTo>
                  <a:lnTo>
                    <a:pt x="158" y="569"/>
                  </a:lnTo>
                  <a:lnTo>
                    <a:pt x="190" y="607"/>
                  </a:lnTo>
                  <a:lnTo>
                    <a:pt x="190" y="608"/>
                  </a:lnTo>
                  <a:lnTo>
                    <a:pt x="223" y="643"/>
                  </a:lnTo>
                  <a:lnTo>
                    <a:pt x="286" y="707"/>
                  </a:lnTo>
                  <a:lnTo>
                    <a:pt x="354" y="763"/>
                  </a:lnTo>
                  <a:lnTo>
                    <a:pt x="387" y="786"/>
                  </a:lnTo>
                  <a:lnTo>
                    <a:pt x="421" y="807"/>
                  </a:lnTo>
                  <a:lnTo>
                    <a:pt x="422" y="807"/>
                  </a:lnTo>
                  <a:lnTo>
                    <a:pt x="488" y="842"/>
                  </a:lnTo>
                  <a:lnTo>
                    <a:pt x="524" y="857"/>
                  </a:lnTo>
                  <a:lnTo>
                    <a:pt x="525" y="857"/>
                  </a:lnTo>
                  <a:lnTo>
                    <a:pt x="559" y="869"/>
                  </a:lnTo>
                  <a:lnTo>
                    <a:pt x="595" y="880"/>
                  </a:lnTo>
                  <a:lnTo>
                    <a:pt x="663" y="895"/>
                  </a:lnTo>
                  <a:lnTo>
                    <a:pt x="700" y="900"/>
                  </a:lnTo>
                  <a:lnTo>
                    <a:pt x="701" y="900"/>
                  </a:lnTo>
                  <a:lnTo>
                    <a:pt x="772" y="901"/>
                  </a:lnTo>
                  <a:lnTo>
                    <a:pt x="809" y="901"/>
                  </a:lnTo>
                  <a:lnTo>
                    <a:pt x="879" y="897"/>
                  </a:lnTo>
                  <a:lnTo>
                    <a:pt x="949" y="883"/>
                  </a:lnTo>
                  <a:lnTo>
                    <a:pt x="987" y="875"/>
                  </a:lnTo>
                  <a:lnTo>
                    <a:pt x="1059" y="856"/>
                  </a:lnTo>
                  <a:lnTo>
                    <a:pt x="1059" y="855"/>
                  </a:lnTo>
                  <a:lnTo>
                    <a:pt x="1129" y="827"/>
                  </a:lnTo>
                  <a:lnTo>
                    <a:pt x="1129" y="828"/>
                  </a:lnTo>
                  <a:lnTo>
                    <a:pt x="1165" y="815"/>
                  </a:lnTo>
                  <a:lnTo>
                    <a:pt x="1165" y="814"/>
                  </a:lnTo>
                  <a:lnTo>
                    <a:pt x="1272" y="765"/>
                  </a:lnTo>
                  <a:lnTo>
                    <a:pt x="1306" y="745"/>
                  </a:lnTo>
                  <a:lnTo>
                    <a:pt x="1376" y="706"/>
                  </a:lnTo>
                  <a:lnTo>
                    <a:pt x="1447" y="663"/>
                  </a:lnTo>
                  <a:lnTo>
                    <a:pt x="1513" y="619"/>
                  </a:lnTo>
                  <a:lnTo>
                    <a:pt x="1581" y="570"/>
                  </a:lnTo>
                  <a:lnTo>
                    <a:pt x="1776" y="421"/>
                  </a:lnTo>
                  <a:lnTo>
                    <a:pt x="1777" y="421"/>
                  </a:lnTo>
                  <a:lnTo>
                    <a:pt x="1956" y="269"/>
                  </a:lnTo>
                  <a:lnTo>
                    <a:pt x="2066" y="170"/>
                  </a:lnTo>
                  <a:lnTo>
                    <a:pt x="2169" y="82"/>
                  </a:lnTo>
                  <a:lnTo>
                    <a:pt x="2164" y="81"/>
                  </a:lnTo>
                  <a:lnTo>
                    <a:pt x="2175" y="99"/>
                  </a:lnTo>
                  <a:lnTo>
                    <a:pt x="2175" y="100"/>
                  </a:lnTo>
                  <a:lnTo>
                    <a:pt x="2188" y="115"/>
                  </a:lnTo>
                  <a:lnTo>
                    <a:pt x="2194" y="119"/>
                  </a:lnTo>
                  <a:lnTo>
                    <a:pt x="2195" y="120"/>
                  </a:lnTo>
                  <a:lnTo>
                    <a:pt x="2202" y="122"/>
                  </a:lnTo>
                  <a:lnTo>
                    <a:pt x="2201" y="121"/>
                  </a:lnTo>
                  <a:lnTo>
                    <a:pt x="2206" y="123"/>
                  </a:lnTo>
                  <a:lnTo>
                    <a:pt x="2209" y="124"/>
                  </a:lnTo>
                  <a:lnTo>
                    <a:pt x="2215" y="122"/>
                  </a:lnTo>
                  <a:lnTo>
                    <a:pt x="2215" y="121"/>
                  </a:lnTo>
                  <a:lnTo>
                    <a:pt x="2220" y="118"/>
                  </a:lnTo>
                  <a:lnTo>
                    <a:pt x="2222" y="118"/>
                  </a:lnTo>
                  <a:lnTo>
                    <a:pt x="2226" y="113"/>
                  </a:lnTo>
                  <a:lnTo>
                    <a:pt x="2227" y="111"/>
                  </a:lnTo>
                  <a:lnTo>
                    <a:pt x="2231" y="97"/>
                  </a:lnTo>
                  <a:lnTo>
                    <a:pt x="2231" y="86"/>
                  </a:lnTo>
                  <a:lnTo>
                    <a:pt x="2229" y="74"/>
                  </a:lnTo>
                  <a:lnTo>
                    <a:pt x="2222" y="51"/>
                  </a:lnTo>
                  <a:lnTo>
                    <a:pt x="2216" y="39"/>
                  </a:lnTo>
                  <a:lnTo>
                    <a:pt x="2201" y="19"/>
                  </a:lnTo>
                  <a:lnTo>
                    <a:pt x="2188" y="6"/>
                  </a:lnTo>
                  <a:lnTo>
                    <a:pt x="2181" y="2"/>
                  </a:lnTo>
                  <a:lnTo>
                    <a:pt x="2174" y="0"/>
                  </a:lnTo>
                  <a:lnTo>
                    <a:pt x="2173" y="0"/>
                  </a:lnTo>
                  <a:lnTo>
                    <a:pt x="2165" y="2"/>
                  </a:lnTo>
                  <a:lnTo>
                    <a:pt x="2160" y="3"/>
                  </a:lnTo>
                  <a:lnTo>
                    <a:pt x="2159" y="4"/>
                  </a:lnTo>
                  <a:lnTo>
                    <a:pt x="2155" y="10"/>
                  </a:lnTo>
                  <a:lnTo>
                    <a:pt x="2151" y="22"/>
                  </a:lnTo>
                  <a:lnTo>
                    <a:pt x="2151" y="41"/>
                  </a:lnTo>
                  <a:lnTo>
                    <a:pt x="2155" y="61"/>
                  </a:lnTo>
                  <a:lnTo>
                    <a:pt x="2158" y="58"/>
                  </a:lnTo>
                  <a:lnTo>
                    <a:pt x="2156" y="58"/>
                  </a:lnTo>
                  <a:lnTo>
                    <a:pt x="2155" y="58"/>
                  </a:lnTo>
                  <a:lnTo>
                    <a:pt x="2150" y="60"/>
                  </a:lnTo>
                  <a:lnTo>
                    <a:pt x="2151" y="59"/>
                  </a:lnTo>
                  <a:lnTo>
                    <a:pt x="2150" y="59"/>
                  </a:lnTo>
                  <a:lnTo>
                    <a:pt x="2147" y="62"/>
                  </a:lnTo>
                  <a:lnTo>
                    <a:pt x="2147" y="67"/>
                  </a:lnTo>
                  <a:lnTo>
                    <a:pt x="2148" y="64"/>
                  </a:lnTo>
                  <a:lnTo>
                    <a:pt x="1968" y="225"/>
                  </a:lnTo>
                  <a:lnTo>
                    <a:pt x="1914" y="271"/>
                  </a:lnTo>
                  <a:lnTo>
                    <a:pt x="1861" y="317"/>
                  </a:lnTo>
                  <a:lnTo>
                    <a:pt x="1803" y="364"/>
                  </a:lnTo>
                  <a:lnTo>
                    <a:pt x="1804" y="364"/>
                  </a:lnTo>
                  <a:lnTo>
                    <a:pt x="1743" y="410"/>
                  </a:lnTo>
                  <a:lnTo>
                    <a:pt x="1683" y="454"/>
                  </a:lnTo>
                  <a:lnTo>
                    <a:pt x="1617" y="499"/>
                  </a:lnTo>
                  <a:lnTo>
                    <a:pt x="1553" y="544"/>
                  </a:lnTo>
                  <a:lnTo>
                    <a:pt x="1489" y="585"/>
                  </a:lnTo>
                  <a:lnTo>
                    <a:pt x="1418" y="626"/>
                  </a:lnTo>
                  <a:lnTo>
                    <a:pt x="1349" y="664"/>
                  </a:lnTo>
                  <a:lnTo>
                    <a:pt x="1350" y="664"/>
                  </a:lnTo>
                  <a:lnTo>
                    <a:pt x="1314" y="680"/>
                  </a:lnTo>
                  <a:lnTo>
                    <a:pt x="1278" y="698"/>
                  </a:lnTo>
                  <a:lnTo>
                    <a:pt x="1244" y="713"/>
                  </a:lnTo>
                  <a:lnTo>
                    <a:pt x="1208" y="731"/>
                  </a:lnTo>
                  <a:lnTo>
                    <a:pt x="1208" y="730"/>
                  </a:lnTo>
                  <a:lnTo>
                    <a:pt x="1100" y="770"/>
                  </a:lnTo>
                  <a:lnTo>
                    <a:pt x="1027" y="788"/>
                  </a:lnTo>
                  <a:lnTo>
                    <a:pt x="953" y="806"/>
                  </a:lnTo>
                  <a:lnTo>
                    <a:pt x="880" y="816"/>
                  </a:lnTo>
                  <a:lnTo>
                    <a:pt x="844" y="817"/>
                  </a:lnTo>
                  <a:lnTo>
                    <a:pt x="843" y="817"/>
                  </a:lnTo>
                  <a:lnTo>
                    <a:pt x="808" y="821"/>
                  </a:lnTo>
                  <a:lnTo>
                    <a:pt x="772" y="821"/>
                  </a:lnTo>
                  <a:lnTo>
                    <a:pt x="736" y="817"/>
                  </a:lnTo>
                  <a:lnTo>
                    <a:pt x="661" y="812"/>
                  </a:lnTo>
                  <a:lnTo>
                    <a:pt x="624" y="806"/>
                  </a:lnTo>
                  <a:lnTo>
                    <a:pt x="625" y="806"/>
                  </a:lnTo>
                  <a:lnTo>
                    <a:pt x="555" y="785"/>
                  </a:lnTo>
                  <a:lnTo>
                    <a:pt x="519" y="773"/>
                  </a:lnTo>
                  <a:lnTo>
                    <a:pt x="484" y="759"/>
                  </a:lnTo>
                  <a:lnTo>
                    <a:pt x="414" y="726"/>
                  </a:lnTo>
                  <a:lnTo>
                    <a:pt x="379" y="704"/>
                  </a:lnTo>
                  <a:lnTo>
                    <a:pt x="311" y="659"/>
                  </a:lnTo>
                  <a:lnTo>
                    <a:pt x="278" y="631"/>
                  </a:lnTo>
                  <a:lnTo>
                    <a:pt x="243" y="602"/>
                  </a:lnTo>
                  <a:lnTo>
                    <a:pt x="211" y="569"/>
                  </a:lnTo>
                  <a:lnTo>
                    <a:pt x="146" y="499"/>
                  </a:lnTo>
                  <a:lnTo>
                    <a:pt x="147" y="499"/>
                  </a:lnTo>
                  <a:lnTo>
                    <a:pt x="115" y="458"/>
                  </a:lnTo>
                  <a:lnTo>
                    <a:pt x="83" y="419"/>
                  </a:lnTo>
                  <a:lnTo>
                    <a:pt x="84" y="421"/>
                  </a:lnTo>
                  <a:lnTo>
                    <a:pt x="84" y="419"/>
                  </a:lnTo>
                  <a:lnTo>
                    <a:pt x="81" y="416"/>
                  </a:lnTo>
                  <a:lnTo>
                    <a:pt x="79" y="416"/>
                  </a:lnTo>
                  <a:lnTo>
                    <a:pt x="82" y="419"/>
                  </a:lnTo>
                  <a:lnTo>
                    <a:pt x="82" y="417"/>
                  </a:lnTo>
                  <a:lnTo>
                    <a:pt x="79" y="415"/>
                  </a:lnTo>
                  <a:lnTo>
                    <a:pt x="78" y="415"/>
                  </a:lnTo>
                  <a:lnTo>
                    <a:pt x="80" y="418"/>
                  </a:lnTo>
                  <a:lnTo>
                    <a:pt x="88" y="402"/>
                  </a:lnTo>
                  <a:lnTo>
                    <a:pt x="93" y="386"/>
                  </a:lnTo>
                  <a:lnTo>
                    <a:pt x="96" y="374"/>
                  </a:lnTo>
                  <a:lnTo>
                    <a:pt x="96" y="373"/>
                  </a:lnTo>
                  <a:lnTo>
                    <a:pt x="98" y="360"/>
                  </a:lnTo>
                  <a:lnTo>
                    <a:pt x="101" y="349"/>
                  </a:lnTo>
                  <a:lnTo>
                    <a:pt x="101" y="348"/>
                  </a:lnTo>
                  <a:lnTo>
                    <a:pt x="96" y="334"/>
                  </a:lnTo>
                  <a:lnTo>
                    <a:pt x="96" y="333"/>
                  </a:lnTo>
                  <a:lnTo>
                    <a:pt x="90" y="328"/>
                  </a:lnTo>
                  <a:lnTo>
                    <a:pt x="88" y="328"/>
                  </a:lnTo>
                  <a:lnTo>
                    <a:pt x="80" y="328"/>
                  </a:lnTo>
                  <a:lnTo>
                    <a:pt x="72" y="329"/>
                  </a:lnTo>
                  <a:lnTo>
                    <a:pt x="71" y="330"/>
                  </a:lnTo>
                  <a:lnTo>
                    <a:pt x="66" y="335"/>
                  </a:lnTo>
                  <a:lnTo>
                    <a:pt x="57" y="343"/>
                  </a:lnTo>
                  <a:lnTo>
                    <a:pt x="48" y="352"/>
                  </a:lnTo>
                  <a:lnTo>
                    <a:pt x="29" y="380"/>
                  </a:lnTo>
                  <a:lnTo>
                    <a:pt x="15" y="411"/>
                  </a:lnTo>
                  <a:lnTo>
                    <a:pt x="14" y="411"/>
                  </a:lnTo>
                  <a:lnTo>
                    <a:pt x="10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6" y="485"/>
                  </a:lnTo>
                  <a:lnTo>
                    <a:pt x="11" y="488"/>
                  </a:lnTo>
                  <a:lnTo>
                    <a:pt x="12" y="489"/>
                  </a:lnTo>
                  <a:lnTo>
                    <a:pt x="19" y="489"/>
                  </a:lnTo>
                  <a:lnTo>
                    <a:pt x="26" y="487"/>
                  </a:lnTo>
                  <a:lnTo>
                    <a:pt x="39" y="478"/>
                  </a:lnTo>
                  <a:lnTo>
                    <a:pt x="40" y="478"/>
                  </a:lnTo>
                  <a:lnTo>
                    <a:pt x="64" y="450"/>
                  </a:lnTo>
                  <a:lnTo>
                    <a:pt x="64" y="449"/>
                  </a:lnTo>
                  <a:lnTo>
                    <a:pt x="71" y="436"/>
                  </a:lnTo>
                  <a:lnTo>
                    <a:pt x="71" y="435"/>
                  </a:lnTo>
                  <a:lnTo>
                    <a:pt x="71" y="434"/>
                  </a:lnTo>
                  <a:lnTo>
                    <a:pt x="71" y="433"/>
                  </a:lnTo>
                  <a:lnTo>
                    <a:pt x="70" y="433"/>
                  </a:lnTo>
                  <a:lnTo>
                    <a:pt x="69" y="431"/>
                  </a:lnTo>
                  <a:lnTo>
                    <a:pt x="67" y="431"/>
                  </a:lnTo>
                  <a:lnTo>
                    <a:pt x="66" y="433"/>
                  </a:lnTo>
                  <a:lnTo>
                    <a:pt x="58" y="447"/>
                  </a:lnTo>
                  <a:lnTo>
                    <a:pt x="60" y="447"/>
                  </a:lnTo>
                  <a:lnTo>
                    <a:pt x="36" y="474"/>
                  </a:lnTo>
                  <a:lnTo>
                    <a:pt x="23" y="482"/>
                  </a:lnTo>
                  <a:lnTo>
                    <a:pt x="24" y="482"/>
                  </a:lnTo>
                  <a:lnTo>
                    <a:pt x="16" y="483"/>
                  </a:lnTo>
                  <a:lnTo>
                    <a:pt x="17" y="483"/>
                  </a:lnTo>
                  <a:lnTo>
                    <a:pt x="12" y="483"/>
                  </a:lnTo>
                  <a:lnTo>
                    <a:pt x="14" y="484"/>
                  </a:lnTo>
                  <a:lnTo>
                    <a:pt x="9" y="480"/>
                  </a:lnTo>
                  <a:lnTo>
                    <a:pt x="10" y="482"/>
                  </a:lnTo>
                  <a:lnTo>
                    <a:pt x="7" y="464"/>
                  </a:lnTo>
                  <a:lnTo>
                    <a:pt x="7" y="465"/>
                  </a:lnTo>
                  <a:lnTo>
                    <a:pt x="10" y="442"/>
                  </a:lnTo>
                  <a:lnTo>
                    <a:pt x="15" y="428"/>
                  </a:lnTo>
                  <a:lnTo>
                    <a:pt x="21" y="413"/>
                  </a:lnTo>
                  <a:lnTo>
                    <a:pt x="35" y="382"/>
                  </a:lnTo>
                  <a:lnTo>
                    <a:pt x="35" y="383"/>
                  </a:lnTo>
                  <a:lnTo>
                    <a:pt x="53" y="355"/>
                  </a:lnTo>
                  <a:lnTo>
                    <a:pt x="52" y="356"/>
                  </a:lnTo>
                  <a:lnTo>
                    <a:pt x="62" y="347"/>
                  </a:lnTo>
                  <a:lnTo>
                    <a:pt x="70" y="339"/>
                  </a:lnTo>
                  <a:lnTo>
                    <a:pt x="76" y="334"/>
                  </a:lnTo>
                  <a:lnTo>
                    <a:pt x="75" y="335"/>
                  </a:lnTo>
                  <a:lnTo>
                    <a:pt x="82" y="333"/>
                  </a:lnTo>
                  <a:lnTo>
                    <a:pt x="81" y="333"/>
                  </a:lnTo>
                  <a:lnTo>
                    <a:pt x="88" y="333"/>
                  </a:lnTo>
                  <a:lnTo>
                    <a:pt x="87" y="332"/>
                  </a:lnTo>
                  <a:lnTo>
                    <a:pt x="92" y="337"/>
                  </a:lnTo>
                  <a:lnTo>
                    <a:pt x="91" y="336"/>
                  </a:lnTo>
                  <a:lnTo>
                    <a:pt x="94" y="349"/>
                  </a:lnTo>
                  <a:lnTo>
                    <a:pt x="94" y="348"/>
                  </a:lnTo>
                  <a:lnTo>
                    <a:pt x="92" y="359"/>
                  </a:lnTo>
                  <a:lnTo>
                    <a:pt x="91" y="372"/>
                  </a:lnTo>
                  <a:lnTo>
                    <a:pt x="87" y="384"/>
                  </a:lnTo>
                  <a:lnTo>
                    <a:pt x="81" y="400"/>
                  </a:lnTo>
                  <a:lnTo>
                    <a:pt x="75" y="417"/>
                  </a:lnTo>
                  <a:lnTo>
                    <a:pt x="78" y="420"/>
                  </a:lnTo>
                  <a:lnTo>
                    <a:pt x="79" y="420"/>
                  </a:lnTo>
                  <a:lnTo>
                    <a:pt x="76" y="417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2"/>
                  </a:lnTo>
                  <a:lnTo>
                    <a:pt x="78" y="419"/>
                  </a:lnTo>
                  <a:lnTo>
                    <a:pt x="78" y="421"/>
                  </a:lnTo>
                  <a:lnTo>
                    <a:pt x="78" y="422"/>
                  </a:lnTo>
                  <a:lnTo>
                    <a:pt x="109" y="462"/>
                  </a:lnTo>
                  <a:lnTo>
                    <a:pt x="142" y="503"/>
                  </a:lnTo>
                  <a:lnTo>
                    <a:pt x="206" y="573"/>
                  </a:lnTo>
                  <a:lnTo>
                    <a:pt x="239" y="606"/>
                  </a:lnTo>
                  <a:lnTo>
                    <a:pt x="273" y="635"/>
                  </a:lnTo>
                  <a:lnTo>
                    <a:pt x="307" y="663"/>
                  </a:lnTo>
                  <a:lnTo>
                    <a:pt x="308" y="663"/>
                  </a:lnTo>
                  <a:lnTo>
                    <a:pt x="376" y="709"/>
                  </a:lnTo>
                  <a:lnTo>
                    <a:pt x="410" y="730"/>
                  </a:lnTo>
                  <a:lnTo>
                    <a:pt x="482" y="765"/>
                  </a:lnTo>
                  <a:lnTo>
                    <a:pt x="517" y="778"/>
                  </a:lnTo>
                  <a:lnTo>
                    <a:pt x="553" y="790"/>
                  </a:lnTo>
                  <a:lnTo>
                    <a:pt x="623" y="811"/>
                  </a:lnTo>
                  <a:lnTo>
                    <a:pt x="624" y="811"/>
                  </a:lnTo>
                  <a:lnTo>
                    <a:pt x="660" y="818"/>
                  </a:lnTo>
                  <a:lnTo>
                    <a:pt x="735" y="823"/>
                  </a:lnTo>
                  <a:lnTo>
                    <a:pt x="772" y="826"/>
                  </a:lnTo>
                  <a:lnTo>
                    <a:pt x="808" y="826"/>
                  </a:lnTo>
                  <a:lnTo>
                    <a:pt x="809" y="826"/>
                  </a:lnTo>
                  <a:lnTo>
                    <a:pt x="844" y="823"/>
                  </a:lnTo>
                  <a:lnTo>
                    <a:pt x="880" y="821"/>
                  </a:lnTo>
                  <a:lnTo>
                    <a:pt x="954" y="811"/>
                  </a:lnTo>
                  <a:lnTo>
                    <a:pt x="1028" y="793"/>
                  </a:lnTo>
                  <a:lnTo>
                    <a:pt x="1102" y="775"/>
                  </a:lnTo>
                  <a:lnTo>
                    <a:pt x="1210" y="736"/>
                  </a:lnTo>
                  <a:lnTo>
                    <a:pt x="1210" y="735"/>
                  </a:lnTo>
                  <a:lnTo>
                    <a:pt x="1247" y="717"/>
                  </a:lnTo>
                  <a:lnTo>
                    <a:pt x="1280" y="702"/>
                  </a:lnTo>
                  <a:lnTo>
                    <a:pt x="1316" y="685"/>
                  </a:lnTo>
                  <a:lnTo>
                    <a:pt x="1353" y="669"/>
                  </a:lnTo>
                  <a:lnTo>
                    <a:pt x="1354" y="669"/>
                  </a:lnTo>
                  <a:lnTo>
                    <a:pt x="1422" y="631"/>
                  </a:lnTo>
                  <a:lnTo>
                    <a:pt x="1492" y="589"/>
                  </a:lnTo>
                  <a:lnTo>
                    <a:pt x="1557" y="549"/>
                  </a:lnTo>
                  <a:lnTo>
                    <a:pt x="1621" y="503"/>
                  </a:lnTo>
                  <a:lnTo>
                    <a:pt x="1686" y="459"/>
                  </a:lnTo>
                  <a:lnTo>
                    <a:pt x="1747" y="415"/>
                  </a:lnTo>
                  <a:lnTo>
                    <a:pt x="1747" y="414"/>
                  </a:lnTo>
                  <a:lnTo>
                    <a:pt x="1807" y="368"/>
                  </a:lnTo>
                  <a:lnTo>
                    <a:pt x="1865" y="322"/>
                  </a:lnTo>
                  <a:lnTo>
                    <a:pt x="1918" y="275"/>
                  </a:lnTo>
                  <a:lnTo>
                    <a:pt x="1972" y="229"/>
                  </a:lnTo>
                  <a:lnTo>
                    <a:pt x="2152" y="69"/>
                  </a:lnTo>
                  <a:lnTo>
                    <a:pt x="2154" y="67"/>
                  </a:lnTo>
                  <a:lnTo>
                    <a:pt x="2154" y="62"/>
                  </a:lnTo>
                  <a:lnTo>
                    <a:pt x="2150" y="66"/>
                  </a:lnTo>
                  <a:lnTo>
                    <a:pt x="2151" y="66"/>
                  </a:lnTo>
                  <a:lnTo>
                    <a:pt x="2154" y="64"/>
                  </a:lnTo>
                  <a:lnTo>
                    <a:pt x="2157" y="63"/>
                  </a:lnTo>
                  <a:lnTo>
                    <a:pt x="2156" y="63"/>
                  </a:lnTo>
                  <a:lnTo>
                    <a:pt x="2158" y="63"/>
                  </a:lnTo>
                  <a:lnTo>
                    <a:pt x="2160" y="60"/>
                  </a:lnTo>
                  <a:lnTo>
                    <a:pt x="2157" y="40"/>
                  </a:lnTo>
                  <a:lnTo>
                    <a:pt x="2157" y="23"/>
                  </a:lnTo>
                  <a:lnTo>
                    <a:pt x="2160" y="12"/>
                  </a:lnTo>
                  <a:lnTo>
                    <a:pt x="2160" y="13"/>
                  </a:lnTo>
                  <a:lnTo>
                    <a:pt x="2164" y="8"/>
                  </a:lnTo>
                  <a:lnTo>
                    <a:pt x="2162" y="9"/>
                  </a:lnTo>
                  <a:lnTo>
                    <a:pt x="2168" y="7"/>
                  </a:lnTo>
                  <a:lnTo>
                    <a:pt x="2174" y="6"/>
                  </a:lnTo>
                  <a:lnTo>
                    <a:pt x="2173" y="6"/>
                  </a:lnTo>
                  <a:lnTo>
                    <a:pt x="2178" y="7"/>
                  </a:lnTo>
                  <a:lnTo>
                    <a:pt x="2185" y="10"/>
                  </a:lnTo>
                  <a:lnTo>
                    <a:pt x="2197" y="23"/>
                  </a:lnTo>
                  <a:lnTo>
                    <a:pt x="2211" y="42"/>
                  </a:lnTo>
                  <a:lnTo>
                    <a:pt x="2211" y="41"/>
                  </a:lnTo>
                  <a:lnTo>
                    <a:pt x="2216" y="53"/>
                  </a:lnTo>
                  <a:lnTo>
                    <a:pt x="2223" y="76"/>
                  </a:lnTo>
                  <a:lnTo>
                    <a:pt x="2223" y="75"/>
                  </a:lnTo>
                  <a:lnTo>
                    <a:pt x="2225" y="87"/>
                  </a:lnTo>
                  <a:lnTo>
                    <a:pt x="2225" y="86"/>
                  </a:lnTo>
                  <a:lnTo>
                    <a:pt x="2225" y="97"/>
                  </a:lnTo>
                  <a:lnTo>
                    <a:pt x="2225" y="96"/>
                  </a:lnTo>
                  <a:lnTo>
                    <a:pt x="2222" y="110"/>
                  </a:lnTo>
                  <a:lnTo>
                    <a:pt x="2222" y="109"/>
                  </a:lnTo>
                  <a:lnTo>
                    <a:pt x="2217" y="114"/>
                  </a:lnTo>
                  <a:lnTo>
                    <a:pt x="2217" y="113"/>
                  </a:lnTo>
                  <a:lnTo>
                    <a:pt x="2212" y="117"/>
                  </a:lnTo>
                  <a:lnTo>
                    <a:pt x="2212" y="116"/>
                  </a:lnTo>
                  <a:lnTo>
                    <a:pt x="2206" y="118"/>
                  </a:lnTo>
                  <a:lnTo>
                    <a:pt x="2209" y="119"/>
                  </a:lnTo>
                  <a:lnTo>
                    <a:pt x="2204" y="117"/>
                  </a:lnTo>
                  <a:lnTo>
                    <a:pt x="2203" y="116"/>
                  </a:lnTo>
                  <a:lnTo>
                    <a:pt x="2197" y="115"/>
                  </a:lnTo>
                  <a:lnTo>
                    <a:pt x="2198" y="115"/>
                  </a:lnTo>
                  <a:lnTo>
                    <a:pt x="2192" y="111"/>
                  </a:lnTo>
                  <a:lnTo>
                    <a:pt x="2179" y="96"/>
                  </a:lnTo>
                  <a:lnTo>
                    <a:pt x="2181" y="97"/>
                  </a:lnTo>
                  <a:lnTo>
                    <a:pt x="2169" y="78"/>
                  </a:lnTo>
                  <a:lnTo>
                    <a:pt x="2164" y="78"/>
                  </a:lnTo>
                  <a:lnTo>
                    <a:pt x="2062" y="166"/>
                  </a:lnTo>
                  <a:lnTo>
                    <a:pt x="1952" y="265"/>
                  </a:lnTo>
                  <a:lnTo>
                    <a:pt x="1773" y="417"/>
                  </a:lnTo>
                  <a:lnTo>
                    <a:pt x="1578" y="566"/>
                  </a:lnTo>
                  <a:lnTo>
                    <a:pt x="1578" y="565"/>
                  </a:lnTo>
                  <a:lnTo>
                    <a:pt x="1510" y="613"/>
                  </a:lnTo>
                  <a:lnTo>
                    <a:pt x="1443" y="659"/>
                  </a:lnTo>
                  <a:lnTo>
                    <a:pt x="1373" y="701"/>
                  </a:lnTo>
                  <a:lnTo>
                    <a:pt x="1303" y="741"/>
                  </a:lnTo>
                  <a:lnTo>
                    <a:pt x="1270" y="759"/>
                  </a:lnTo>
                  <a:lnTo>
                    <a:pt x="1163" y="809"/>
                  </a:lnTo>
                  <a:lnTo>
                    <a:pt x="1127" y="822"/>
                  </a:lnTo>
                  <a:lnTo>
                    <a:pt x="1127" y="823"/>
                  </a:lnTo>
                  <a:lnTo>
                    <a:pt x="1057" y="850"/>
                  </a:lnTo>
                  <a:lnTo>
                    <a:pt x="986" y="868"/>
                  </a:lnTo>
                  <a:lnTo>
                    <a:pt x="948" y="878"/>
                  </a:lnTo>
                  <a:lnTo>
                    <a:pt x="878" y="891"/>
                  </a:lnTo>
                  <a:lnTo>
                    <a:pt x="808" y="896"/>
                  </a:lnTo>
                  <a:lnTo>
                    <a:pt x="772" y="896"/>
                  </a:lnTo>
                  <a:lnTo>
                    <a:pt x="701" y="894"/>
                  </a:lnTo>
                  <a:lnTo>
                    <a:pt x="664" y="889"/>
                  </a:lnTo>
                  <a:lnTo>
                    <a:pt x="665" y="889"/>
                  </a:lnTo>
                  <a:lnTo>
                    <a:pt x="596" y="874"/>
                  </a:lnTo>
                  <a:lnTo>
                    <a:pt x="560" y="863"/>
                  </a:lnTo>
                  <a:lnTo>
                    <a:pt x="526" y="852"/>
                  </a:lnTo>
                  <a:lnTo>
                    <a:pt x="527" y="852"/>
                  </a:lnTo>
                  <a:lnTo>
                    <a:pt x="490" y="837"/>
                  </a:lnTo>
                  <a:lnTo>
                    <a:pt x="424" y="803"/>
                  </a:lnTo>
                  <a:lnTo>
                    <a:pt x="391" y="782"/>
                  </a:lnTo>
                  <a:lnTo>
                    <a:pt x="359" y="757"/>
                  </a:lnTo>
                  <a:lnTo>
                    <a:pt x="359" y="758"/>
                  </a:lnTo>
                  <a:lnTo>
                    <a:pt x="291" y="703"/>
                  </a:lnTo>
                  <a:lnTo>
                    <a:pt x="227" y="639"/>
                  </a:lnTo>
                  <a:lnTo>
                    <a:pt x="194" y="604"/>
                  </a:lnTo>
                  <a:lnTo>
                    <a:pt x="162" y="566"/>
                  </a:lnTo>
                  <a:lnTo>
                    <a:pt x="102" y="481"/>
                  </a:lnTo>
                  <a:lnTo>
                    <a:pt x="71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8"/>
          <p:cNvGrpSpPr/>
          <p:nvPr/>
        </p:nvGrpSpPr>
        <p:grpSpPr>
          <a:xfrm>
            <a:off x="5789520" y="2235240"/>
            <a:ext cx="381240" cy="380880"/>
            <a:chOff x="5789520" y="2235240"/>
            <a:chExt cx="381240" cy="380880"/>
          </a:xfrm>
        </p:grpSpPr>
        <p:sp>
          <p:nvSpPr>
            <p:cNvPr id="134" name="AutoShape 17"/>
            <p:cNvSpPr/>
            <p:nvPr/>
          </p:nvSpPr>
          <p:spPr>
            <a:xfrm>
              <a:off x="5789520" y="223524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5789520" y="223524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5897520" y="233676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589752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6023160" y="233496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6023160" y="233496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859360" y="243972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4186080" y="1459080"/>
            <a:ext cx="381240" cy="380880"/>
            <a:chOff x="4186080" y="1459080"/>
            <a:chExt cx="381240" cy="380880"/>
          </a:xfrm>
        </p:grpSpPr>
        <p:sp>
          <p:nvSpPr>
            <p:cNvPr id="143" name="AutoShape 17"/>
            <p:cNvSpPr/>
            <p:nvPr/>
          </p:nvSpPr>
          <p:spPr>
            <a:xfrm>
              <a:off x="4186080" y="145908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4186080" y="145908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294080" y="156060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429408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4419720" y="155880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419720" y="155880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4255920" y="166356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2584440" y="2075040"/>
            <a:ext cx="380880" cy="380880"/>
            <a:chOff x="2584440" y="2075040"/>
            <a:chExt cx="380880" cy="380880"/>
          </a:xfrm>
        </p:grpSpPr>
        <p:sp>
          <p:nvSpPr>
            <p:cNvPr id="152" name="AutoShape 17"/>
            <p:cNvSpPr/>
            <p:nvPr/>
          </p:nvSpPr>
          <p:spPr>
            <a:xfrm>
              <a:off x="2584440" y="207504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2584440" y="207504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1"/>
            <p:cNvSpPr/>
            <p:nvPr/>
          </p:nvSpPr>
          <p:spPr>
            <a:xfrm>
              <a:off x="2692080" y="217656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269208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>
              <a:off x="2817720" y="217476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>
              <a:off x="2817720" y="217476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6"/>
            <p:cNvSpPr/>
            <p:nvPr/>
          </p:nvSpPr>
          <p:spPr>
            <a:xfrm>
              <a:off x="2653920" y="227952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2209680" y="3214800"/>
            <a:ext cx="381240" cy="380880"/>
            <a:chOff x="2209680" y="3214800"/>
            <a:chExt cx="381240" cy="380880"/>
          </a:xfrm>
        </p:grpSpPr>
        <p:sp>
          <p:nvSpPr>
            <p:cNvPr id="161" name="AutoShape 17"/>
            <p:cNvSpPr/>
            <p:nvPr/>
          </p:nvSpPr>
          <p:spPr>
            <a:xfrm>
              <a:off x="2209680" y="32148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2209680" y="32148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2317680" y="33163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231768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3"/>
            <p:cNvSpPr/>
            <p:nvPr/>
          </p:nvSpPr>
          <p:spPr>
            <a:xfrm>
              <a:off x="2443320" y="33145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2443320" y="33145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6"/>
            <p:cNvSpPr/>
            <p:nvPr/>
          </p:nvSpPr>
          <p:spPr>
            <a:xfrm>
              <a:off x="2279520" y="34192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8"/>
          <p:cNvGrpSpPr/>
          <p:nvPr/>
        </p:nvGrpSpPr>
        <p:grpSpPr>
          <a:xfrm>
            <a:off x="2666880" y="4464000"/>
            <a:ext cx="381240" cy="380880"/>
            <a:chOff x="2666880" y="4464000"/>
            <a:chExt cx="381240" cy="380880"/>
          </a:xfrm>
        </p:grpSpPr>
        <p:sp>
          <p:nvSpPr>
            <p:cNvPr id="170" name="AutoShape 17"/>
            <p:cNvSpPr/>
            <p:nvPr/>
          </p:nvSpPr>
          <p:spPr>
            <a:xfrm>
              <a:off x="2666880" y="44640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>
              <a:off x="2666880" y="446400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1"/>
            <p:cNvSpPr/>
            <p:nvPr/>
          </p:nvSpPr>
          <p:spPr>
            <a:xfrm>
              <a:off x="2774880" y="456552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2"/>
            <p:cNvSpPr/>
            <p:nvPr/>
          </p:nvSpPr>
          <p:spPr>
            <a:xfrm>
              <a:off x="277488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3"/>
            <p:cNvSpPr/>
            <p:nvPr/>
          </p:nvSpPr>
          <p:spPr>
            <a:xfrm>
              <a:off x="2900520" y="456372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4"/>
            <p:cNvSpPr/>
            <p:nvPr/>
          </p:nvSpPr>
          <p:spPr>
            <a:xfrm>
              <a:off x="2900520" y="456372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5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6"/>
            <p:cNvSpPr/>
            <p:nvPr/>
          </p:nvSpPr>
          <p:spPr>
            <a:xfrm>
              <a:off x="2736720" y="466848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4238640" y="5067360"/>
            <a:ext cx="380880" cy="380880"/>
            <a:chOff x="4238640" y="5067360"/>
            <a:chExt cx="380880" cy="380880"/>
          </a:xfrm>
        </p:grpSpPr>
        <p:sp>
          <p:nvSpPr>
            <p:cNvPr id="179" name="AutoShape 17"/>
            <p:cNvSpPr/>
            <p:nvPr/>
          </p:nvSpPr>
          <p:spPr>
            <a:xfrm>
              <a:off x="4238640" y="506736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238640" y="506736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346280" y="516888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34628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471920" y="516708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471920" y="516708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4308120" y="527184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8"/>
          <p:cNvGrpSpPr/>
          <p:nvPr/>
        </p:nvGrpSpPr>
        <p:grpSpPr>
          <a:xfrm>
            <a:off x="6157800" y="3494160"/>
            <a:ext cx="381240" cy="380880"/>
            <a:chOff x="6157800" y="3494160"/>
            <a:chExt cx="381240" cy="380880"/>
          </a:xfrm>
        </p:grpSpPr>
        <p:sp>
          <p:nvSpPr>
            <p:cNvPr id="188" name="AutoShape 17"/>
            <p:cNvSpPr/>
            <p:nvPr/>
          </p:nvSpPr>
          <p:spPr>
            <a:xfrm>
              <a:off x="6157800" y="349416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157800" y="3494160"/>
              <a:ext cx="38124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65800" y="3595680"/>
              <a:ext cx="3960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2"/>
            <p:cNvSpPr/>
            <p:nvPr/>
          </p:nvSpPr>
          <p:spPr>
            <a:xfrm>
              <a:off x="626580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3"/>
            <p:cNvSpPr/>
            <p:nvPr/>
          </p:nvSpPr>
          <p:spPr>
            <a:xfrm>
              <a:off x="6391440" y="3593880"/>
              <a:ext cx="3960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4"/>
            <p:cNvSpPr/>
            <p:nvPr/>
          </p:nvSpPr>
          <p:spPr>
            <a:xfrm>
              <a:off x="6391440" y="3593880"/>
              <a:ext cx="3960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6"/>
            <p:cNvSpPr/>
            <p:nvPr/>
          </p:nvSpPr>
          <p:spPr>
            <a:xfrm>
              <a:off x="6227640" y="3698640"/>
              <a:ext cx="25884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8"/>
          <p:cNvGrpSpPr/>
          <p:nvPr/>
        </p:nvGrpSpPr>
        <p:grpSpPr>
          <a:xfrm>
            <a:off x="5668920" y="4438800"/>
            <a:ext cx="380880" cy="380880"/>
            <a:chOff x="5668920" y="4438800"/>
            <a:chExt cx="380880" cy="380880"/>
          </a:xfrm>
        </p:grpSpPr>
        <p:sp>
          <p:nvSpPr>
            <p:cNvPr id="197" name="AutoShape 17"/>
            <p:cNvSpPr/>
            <p:nvPr/>
          </p:nvSpPr>
          <p:spPr>
            <a:xfrm>
              <a:off x="5668920" y="44388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668920" y="4438800"/>
              <a:ext cx="380880" cy="380880"/>
            </a:xfrm>
            <a:custGeom>
              <a:avLst/>
              <a:gdLst/>
              <a:ahLst/>
              <a:rect l="l" t="t" r="r" b="b"/>
              <a:pathLst>
                <a:path w="3114" h="3114">
                  <a:moveTo>
                    <a:pt x="1557" y="0"/>
                  </a:moveTo>
                  <a:lnTo>
                    <a:pt x="1598" y="0"/>
                  </a:lnTo>
                  <a:lnTo>
                    <a:pt x="1638" y="2"/>
                  </a:lnTo>
                  <a:lnTo>
                    <a:pt x="1716" y="8"/>
                  </a:lnTo>
                  <a:lnTo>
                    <a:pt x="1793" y="19"/>
                  </a:lnTo>
                  <a:lnTo>
                    <a:pt x="1870" y="33"/>
                  </a:lnTo>
                  <a:lnTo>
                    <a:pt x="1909" y="39"/>
                  </a:lnTo>
                  <a:lnTo>
                    <a:pt x="1983" y="60"/>
                  </a:lnTo>
                  <a:lnTo>
                    <a:pt x="2057" y="82"/>
                  </a:lnTo>
                  <a:lnTo>
                    <a:pt x="2127" y="108"/>
                  </a:lnTo>
                  <a:lnTo>
                    <a:pt x="2198" y="139"/>
                  </a:lnTo>
                  <a:lnTo>
                    <a:pt x="2264" y="172"/>
                  </a:lnTo>
                  <a:lnTo>
                    <a:pt x="2301" y="188"/>
                  </a:lnTo>
                  <a:lnTo>
                    <a:pt x="2396" y="247"/>
                  </a:lnTo>
                  <a:lnTo>
                    <a:pt x="2427" y="267"/>
                  </a:lnTo>
                  <a:lnTo>
                    <a:pt x="2489" y="311"/>
                  </a:lnTo>
                  <a:lnTo>
                    <a:pt x="2547" y="357"/>
                  </a:lnTo>
                  <a:lnTo>
                    <a:pt x="2631" y="432"/>
                  </a:lnTo>
                  <a:lnTo>
                    <a:pt x="2658" y="458"/>
                  </a:lnTo>
                  <a:lnTo>
                    <a:pt x="2684" y="483"/>
                  </a:lnTo>
                  <a:lnTo>
                    <a:pt x="2758" y="568"/>
                  </a:lnTo>
                  <a:lnTo>
                    <a:pt x="2804" y="627"/>
                  </a:lnTo>
                  <a:lnTo>
                    <a:pt x="2849" y="687"/>
                  </a:lnTo>
                  <a:lnTo>
                    <a:pt x="2907" y="784"/>
                  </a:lnTo>
                  <a:lnTo>
                    <a:pt x="2943" y="850"/>
                  </a:lnTo>
                  <a:lnTo>
                    <a:pt x="2977" y="917"/>
                  </a:lnTo>
                  <a:lnTo>
                    <a:pt x="3007" y="989"/>
                  </a:lnTo>
                  <a:lnTo>
                    <a:pt x="3032" y="1059"/>
                  </a:lnTo>
                  <a:lnTo>
                    <a:pt x="3056" y="1133"/>
                  </a:lnTo>
                  <a:lnTo>
                    <a:pt x="3075" y="1207"/>
                  </a:lnTo>
                  <a:lnTo>
                    <a:pt x="3083" y="1244"/>
                  </a:lnTo>
                  <a:lnTo>
                    <a:pt x="3095" y="1321"/>
                  </a:lnTo>
                  <a:lnTo>
                    <a:pt x="3106" y="1398"/>
                  </a:lnTo>
                  <a:lnTo>
                    <a:pt x="3113" y="1477"/>
                  </a:lnTo>
                  <a:lnTo>
                    <a:pt x="3114" y="1517"/>
                  </a:lnTo>
                  <a:lnTo>
                    <a:pt x="3114" y="1598"/>
                  </a:lnTo>
                  <a:lnTo>
                    <a:pt x="3113" y="1637"/>
                  </a:lnTo>
                  <a:lnTo>
                    <a:pt x="3106" y="1716"/>
                  </a:lnTo>
                  <a:lnTo>
                    <a:pt x="3095" y="1794"/>
                  </a:lnTo>
                  <a:lnTo>
                    <a:pt x="3083" y="1870"/>
                  </a:lnTo>
                  <a:lnTo>
                    <a:pt x="3075" y="1907"/>
                  </a:lnTo>
                  <a:lnTo>
                    <a:pt x="3056" y="1983"/>
                  </a:lnTo>
                  <a:lnTo>
                    <a:pt x="3032" y="2057"/>
                  </a:lnTo>
                  <a:lnTo>
                    <a:pt x="3007" y="2129"/>
                  </a:lnTo>
                  <a:lnTo>
                    <a:pt x="2977" y="2197"/>
                  </a:lnTo>
                  <a:lnTo>
                    <a:pt x="2943" y="2264"/>
                  </a:lnTo>
                  <a:lnTo>
                    <a:pt x="2907" y="2333"/>
                  </a:lnTo>
                  <a:lnTo>
                    <a:pt x="2849" y="2427"/>
                  </a:lnTo>
                  <a:lnTo>
                    <a:pt x="2826" y="2458"/>
                  </a:lnTo>
                  <a:lnTo>
                    <a:pt x="2758" y="2546"/>
                  </a:lnTo>
                  <a:lnTo>
                    <a:pt x="2684" y="2631"/>
                  </a:lnTo>
                  <a:lnTo>
                    <a:pt x="2631" y="2684"/>
                  </a:lnTo>
                  <a:lnTo>
                    <a:pt x="2604" y="2710"/>
                  </a:lnTo>
                  <a:lnTo>
                    <a:pt x="2576" y="2736"/>
                  </a:lnTo>
                  <a:lnTo>
                    <a:pt x="2518" y="2783"/>
                  </a:lnTo>
                  <a:lnTo>
                    <a:pt x="2489" y="2805"/>
                  </a:lnTo>
                  <a:lnTo>
                    <a:pt x="2458" y="2826"/>
                  </a:lnTo>
                  <a:lnTo>
                    <a:pt x="2427" y="2849"/>
                  </a:lnTo>
                  <a:lnTo>
                    <a:pt x="2396" y="2869"/>
                  </a:lnTo>
                  <a:lnTo>
                    <a:pt x="2363" y="2890"/>
                  </a:lnTo>
                  <a:lnTo>
                    <a:pt x="2332" y="2907"/>
                  </a:lnTo>
                  <a:lnTo>
                    <a:pt x="2301" y="2927"/>
                  </a:lnTo>
                  <a:lnTo>
                    <a:pt x="2264" y="2942"/>
                  </a:lnTo>
                  <a:lnTo>
                    <a:pt x="2232" y="2962"/>
                  </a:lnTo>
                  <a:lnTo>
                    <a:pt x="2198" y="2975"/>
                  </a:lnTo>
                  <a:lnTo>
                    <a:pt x="2163" y="2993"/>
                  </a:lnTo>
                  <a:lnTo>
                    <a:pt x="2127" y="3006"/>
                  </a:lnTo>
                  <a:lnTo>
                    <a:pt x="2093" y="3020"/>
                  </a:lnTo>
                  <a:lnTo>
                    <a:pt x="2057" y="3032"/>
                  </a:lnTo>
                  <a:lnTo>
                    <a:pt x="2021" y="3046"/>
                  </a:lnTo>
                  <a:lnTo>
                    <a:pt x="1909" y="3075"/>
                  </a:lnTo>
                  <a:lnTo>
                    <a:pt x="1870" y="3083"/>
                  </a:lnTo>
                  <a:lnTo>
                    <a:pt x="1755" y="3103"/>
                  </a:lnTo>
                  <a:lnTo>
                    <a:pt x="1716" y="3106"/>
                  </a:lnTo>
                  <a:lnTo>
                    <a:pt x="1677" y="3111"/>
                  </a:lnTo>
                  <a:lnTo>
                    <a:pt x="1598" y="3114"/>
                  </a:lnTo>
                  <a:lnTo>
                    <a:pt x="1517" y="3114"/>
                  </a:lnTo>
                  <a:lnTo>
                    <a:pt x="1438" y="3111"/>
                  </a:lnTo>
                  <a:lnTo>
                    <a:pt x="1398" y="3106"/>
                  </a:lnTo>
                  <a:lnTo>
                    <a:pt x="1359" y="3103"/>
                  </a:lnTo>
                  <a:lnTo>
                    <a:pt x="1245" y="3083"/>
                  </a:lnTo>
                  <a:lnTo>
                    <a:pt x="1207" y="3075"/>
                  </a:lnTo>
                  <a:lnTo>
                    <a:pt x="1096" y="3046"/>
                  </a:lnTo>
                  <a:lnTo>
                    <a:pt x="1059" y="3032"/>
                  </a:lnTo>
                  <a:lnTo>
                    <a:pt x="1024" y="3020"/>
                  </a:lnTo>
                  <a:lnTo>
                    <a:pt x="989" y="3006"/>
                  </a:lnTo>
                  <a:lnTo>
                    <a:pt x="953" y="2993"/>
                  </a:lnTo>
                  <a:lnTo>
                    <a:pt x="917" y="2975"/>
                  </a:lnTo>
                  <a:lnTo>
                    <a:pt x="883" y="2962"/>
                  </a:lnTo>
                  <a:lnTo>
                    <a:pt x="850" y="2942"/>
                  </a:lnTo>
                  <a:lnTo>
                    <a:pt x="816" y="2927"/>
                  </a:lnTo>
                  <a:lnTo>
                    <a:pt x="785" y="2907"/>
                  </a:lnTo>
                  <a:lnTo>
                    <a:pt x="753" y="2890"/>
                  </a:lnTo>
                  <a:lnTo>
                    <a:pt x="719" y="2869"/>
                  </a:lnTo>
                  <a:lnTo>
                    <a:pt x="688" y="2849"/>
                  </a:lnTo>
                  <a:lnTo>
                    <a:pt x="659" y="2826"/>
                  </a:lnTo>
                  <a:lnTo>
                    <a:pt x="628" y="2805"/>
                  </a:lnTo>
                  <a:lnTo>
                    <a:pt x="598" y="2783"/>
                  </a:lnTo>
                  <a:lnTo>
                    <a:pt x="540" y="2736"/>
                  </a:lnTo>
                  <a:lnTo>
                    <a:pt x="511" y="2710"/>
                  </a:lnTo>
                  <a:lnTo>
                    <a:pt x="458" y="2656"/>
                  </a:lnTo>
                  <a:lnTo>
                    <a:pt x="431" y="2631"/>
                  </a:lnTo>
                  <a:lnTo>
                    <a:pt x="357" y="2546"/>
                  </a:lnTo>
                  <a:lnTo>
                    <a:pt x="289" y="2458"/>
                  </a:lnTo>
                  <a:lnTo>
                    <a:pt x="267" y="2427"/>
                  </a:lnTo>
                  <a:lnTo>
                    <a:pt x="208" y="2333"/>
                  </a:lnTo>
                  <a:lnTo>
                    <a:pt x="172" y="2264"/>
                  </a:lnTo>
                  <a:lnTo>
                    <a:pt x="139" y="2197"/>
                  </a:lnTo>
                  <a:lnTo>
                    <a:pt x="110" y="2129"/>
                  </a:lnTo>
                  <a:lnTo>
                    <a:pt x="82" y="2057"/>
                  </a:lnTo>
                  <a:lnTo>
                    <a:pt x="61" y="1983"/>
                  </a:lnTo>
                  <a:lnTo>
                    <a:pt x="40" y="1907"/>
                  </a:lnTo>
                  <a:lnTo>
                    <a:pt x="33" y="1870"/>
                  </a:lnTo>
                  <a:lnTo>
                    <a:pt x="20" y="1794"/>
                  </a:lnTo>
                  <a:lnTo>
                    <a:pt x="9" y="1716"/>
                  </a:lnTo>
                  <a:lnTo>
                    <a:pt x="2" y="1637"/>
                  </a:lnTo>
                  <a:lnTo>
                    <a:pt x="0" y="1598"/>
                  </a:lnTo>
                  <a:lnTo>
                    <a:pt x="0" y="1517"/>
                  </a:lnTo>
                  <a:lnTo>
                    <a:pt x="2" y="1477"/>
                  </a:lnTo>
                  <a:lnTo>
                    <a:pt x="9" y="1398"/>
                  </a:lnTo>
                  <a:lnTo>
                    <a:pt x="20" y="1321"/>
                  </a:lnTo>
                  <a:lnTo>
                    <a:pt x="33" y="1244"/>
                  </a:lnTo>
                  <a:lnTo>
                    <a:pt x="40" y="1207"/>
                  </a:lnTo>
                  <a:lnTo>
                    <a:pt x="61" y="1133"/>
                  </a:lnTo>
                  <a:lnTo>
                    <a:pt x="82" y="1059"/>
                  </a:lnTo>
                  <a:lnTo>
                    <a:pt x="110" y="989"/>
                  </a:lnTo>
                  <a:lnTo>
                    <a:pt x="139" y="917"/>
                  </a:lnTo>
                  <a:lnTo>
                    <a:pt x="172" y="850"/>
                  </a:lnTo>
                  <a:lnTo>
                    <a:pt x="208" y="784"/>
                  </a:lnTo>
                  <a:lnTo>
                    <a:pt x="267" y="687"/>
                  </a:lnTo>
                  <a:lnTo>
                    <a:pt x="312" y="627"/>
                  </a:lnTo>
                  <a:lnTo>
                    <a:pt x="357" y="568"/>
                  </a:lnTo>
                  <a:lnTo>
                    <a:pt x="431" y="483"/>
                  </a:lnTo>
                  <a:lnTo>
                    <a:pt x="483" y="432"/>
                  </a:lnTo>
                  <a:lnTo>
                    <a:pt x="568" y="357"/>
                  </a:lnTo>
                  <a:lnTo>
                    <a:pt x="628" y="311"/>
                  </a:lnTo>
                  <a:lnTo>
                    <a:pt x="688" y="267"/>
                  </a:lnTo>
                  <a:lnTo>
                    <a:pt x="719" y="247"/>
                  </a:lnTo>
                  <a:lnTo>
                    <a:pt x="785" y="207"/>
                  </a:lnTo>
                  <a:lnTo>
                    <a:pt x="816" y="188"/>
                  </a:lnTo>
                  <a:lnTo>
                    <a:pt x="883" y="154"/>
                  </a:lnTo>
                  <a:lnTo>
                    <a:pt x="917" y="139"/>
                  </a:lnTo>
                  <a:lnTo>
                    <a:pt x="989" y="108"/>
                  </a:lnTo>
                  <a:lnTo>
                    <a:pt x="1059" y="82"/>
                  </a:lnTo>
                  <a:lnTo>
                    <a:pt x="1133" y="60"/>
                  </a:lnTo>
                  <a:lnTo>
                    <a:pt x="1207" y="39"/>
                  </a:lnTo>
                  <a:lnTo>
                    <a:pt x="1245" y="33"/>
                  </a:lnTo>
                  <a:lnTo>
                    <a:pt x="1322" y="19"/>
                  </a:lnTo>
                  <a:lnTo>
                    <a:pt x="1398" y="8"/>
                  </a:lnTo>
                  <a:lnTo>
                    <a:pt x="1478" y="2"/>
                  </a:lnTo>
                  <a:lnTo>
                    <a:pt x="1517" y="0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5776560" y="4540320"/>
              <a:ext cx="39240" cy="82440"/>
            </a:xfrm>
            <a:custGeom>
              <a:avLst/>
              <a:gdLst/>
              <a:ahLst/>
              <a:rect l="l" t="t" r="r" b="b"/>
              <a:pathLst>
                <a:path w="324" h="686">
                  <a:moveTo>
                    <a:pt x="161" y="0"/>
                  </a:moveTo>
                  <a:lnTo>
                    <a:pt x="170" y="0"/>
                  </a:lnTo>
                  <a:lnTo>
                    <a:pt x="187" y="3"/>
                  </a:lnTo>
                  <a:lnTo>
                    <a:pt x="195" y="6"/>
                  </a:lnTo>
                  <a:lnTo>
                    <a:pt x="209" y="13"/>
                  </a:lnTo>
                  <a:lnTo>
                    <a:pt x="239" y="41"/>
                  </a:lnTo>
                  <a:lnTo>
                    <a:pt x="265" y="78"/>
                  </a:lnTo>
                  <a:lnTo>
                    <a:pt x="277" y="99"/>
                  </a:lnTo>
                  <a:lnTo>
                    <a:pt x="287" y="125"/>
                  </a:lnTo>
                  <a:lnTo>
                    <a:pt x="297" y="152"/>
                  </a:lnTo>
                  <a:lnTo>
                    <a:pt x="305" y="179"/>
                  </a:lnTo>
                  <a:lnTo>
                    <a:pt x="311" y="208"/>
                  </a:lnTo>
                  <a:lnTo>
                    <a:pt x="321" y="274"/>
                  </a:lnTo>
                  <a:lnTo>
                    <a:pt x="324" y="342"/>
                  </a:lnTo>
                  <a:lnTo>
                    <a:pt x="321" y="413"/>
                  </a:lnTo>
                  <a:lnTo>
                    <a:pt x="311" y="478"/>
                  </a:lnTo>
                  <a:lnTo>
                    <a:pt x="305" y="506"/>
                  </a:lnTo>
                  <a:lnTo>
                    <a:pt x="297" y="534"/>
                  </a:lnTo>
                  <a:lnTo>
                    <a:pt x="287" y="564"/>
                  </a:lnTo>
                  <a:lnTo>
                    <a:pt x="277" y="585"/>
                  </a:lnTo>
                  <a:lnTo>
                    <a:pt x="265" y="608"/>
                  </a:lnTo>
                  <a:lnTo>
                    <a:pt x="239" y="645"/>
                  </a:lnTo>
                  <a:lnTo>
                    <a:pt x="224" y="658"/>
                  </a:lnTo>
                  <a:lnTo>
                    <a:pt x="209" y="671"/>
                  </a:lnTo>
                  <a:lnTo>
                    <a:pt x="195" y="681"/>
                  </a:lnTo>
                  <a:lnTo>
                    <a:pt x="187" y="685"/>
                  </a:lnTo>
                  <a:lnTo>
                    <a:pt x="170" y="686"/>
                  </a:lnTo>
                  <a:lnTo>
                    <a:pt x="154" y="686"/>
                  </a:lnTo>
                  <a:lnTo>
                    <a:pt x="137" y="685"/>
                  </a:lnTo>
                  <a:lnTo>
                    <a:pt x="129" y="681"/>
                  </a:lnTo>
                  <a:lnTo>
                    <a:pt x="115" y="671"/>
                  </a:lnTo>
                  <a:lnTo>
                    <a:pt x="100" y="658"/>
                  </a:lnTo>
                  <a:lnTo>
                    <a:pt x="84" y="645"/>
                  </a:lnTo>
                  <a:lnTo>
                    <a:pt x="72" y="629"/>
                  </a:lnTo>
                  <a:lnTo>
                    <a:pt x="61" y="608"/>
                  </a:lnTo>
                  <a:lnTo>
                    <a:pt x="36" y="564"/>
                  </a:lnTo>
                  <a:lnTo>
                    <a:pt x="12" y="478"/>
                  </a:lnTo>
                  <a:lnTo>
                    <a:pt x="7" y="447"/>
                  </a:lnTo>
                  <a:lnTo>
                    <a:pt x="0" y="378"/>
                  </a:lnTo>
                  <a:lnTo>
                    <a:pt x="0" y="308"/>
                  </a:lnTo>
                  <a:lnTo>
                    <a:pt x="7" y="241"/>
                  </a:lnTo>
                  <a:lnTo>
                    <a:pt x="12" y="208"/>
                  </a:lnTo>
                  <a:lnTo>
                    <a:pt x="36" y="125"/>
                  </a:lnTo>
                  <a:lnTo>
                    <a:pt x="48" y="99"/>
                  </a:lnTo>
                  <a:lnTo>
                    <a:pt x="72" y="58"/>
                  </a:lnTo>
                  <a:lnTo>
                    <a:pt x="84" y="41"/>
                  </a:lnTo>
                  <a:lnTo>
                    <a:pt x="115" y="13"/>
                  </a:lnTo>
                  <a:lnTo>
                    <a:pt x="129" y="6"/>
                  </a:lnTo>
                  <a:lnTo>
                    <a:pt x="137" y="3"/>
                  </a:lnTo>
                  <a:lnTo>
                    <a:pt x="154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577656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3">
                  <a:moveTo>
                    <a:pt x="164" y="0"/>
                  </a:moveTo>
                  <a:lnTo>
                    <a:pt x="163" y="0"/>
                  </a:lnTo>
                  <a:lnTo>
                    <a:pt x="162" y="1"/>
                  </a:lnTo>
                  <a:lnTo>
                    <a:pt x="161" y="1"/>
                  </a:lnTo>
                  <a:lnTo>
                    <a:pt x="161" y="2"/>
                  </a:lnTo>
                  <a:lnTo>
                    <a:pt x="161" y="4"/>
                  </a:lnTo>
                  <a:lnTo>
                    <a:pt x="161" y="5"/>
                  </a:lnTo>
                  <a:lnTo>
                    <a:pt x="162" y="6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90" y="10"/>
                  </a:lnTo>
                  <a:lnTo>
                    <a:pt x="189" y="10"/>
                  </a:lnTo>
                  <a:lnTo>
                    <a:pt x="198" y="13"/>
                  </a:lnTo>
                  <a:lnTo>
                    <a:pt x="197" y="13"/>
                  </a:lnTo>
                  <a:lnTo>
                    <a:pt x="211" y="20"/>
                  </a:lnTo>
                  <a:lnTo>
                    <a:pt x="210" y="19"/>
                  </a:lnTo>
                  <a:lnTo>
                    <a:pt x="239" y="47"/>
                  </a:lnTo>
                  <a:lnTo>
                    <a:pt x="266" y="84"/>
                  </a:lnTo>
                  <a:lnTo>
                    <a:pt x="277" y="104"/>
                  </a:lnTo>
                  <a:lnTo>
                    <a:pt x="287" y="130"/>
                  </a:lnTo>
                  <a:lnTo>
                    <a:pt x="287" y="129"/>
                  </a:lnTo>
                  <a:lnTo>
                    <a:pt x="297" y="157"/>
                  </a:lnTo>
                  <a:lnTo>
                    <a:pt x="305" y="184"/>
                  </a:lnTo>
                  <a:lnTo>
                    <a:pt x="305" y="183"/>
                  </a:lnTo>
                  <a:lnTo>
                    <a:pt x="310" y="212"/>
                  </a:lnTo>
                  <a:lnTo>
                    <a:pt x="321" y="278"/>
                  </a:lnTo>
                  <a:lnTo>
                    <a:pt x="325" y="346"/>
                  </a:lnTo>
                  <a:lnTo>
                    <a:pt x="321" y="417"/>
                  </a:lnTo>
                  <a:lnTo>
                    <a:pt x="321" y="416"/>
                  </a:lnTo>
                  <a:lnTo>
                    <a:pt x="310" y="482"/>
                  </a:lnTo>
                  <a:lnTo>
                    <a:pt x="305" y="510"/>
                  </a:lnTo>
                  <a:lnTo>
                    <a:pt x="305" y="509"/>
                  </a:lnTo>
                  <a:lnTo>
                    <a:pt x="297" y="537"/>
                  </a:lnTo>
                  <a:lnTo>
                    <a:pt x="287" y="567"/>
                  </a:lnTo>
                  <a:lnTo>
                    <a:pt x="287" y="566"/>
                  </a:lnTo>
                  <a:lnTo>
                    <a:pt x="277" y="588"/>
                  </a:lnTo>
                  <a:lnTo>
                    <a:pt x="266" y="610"/>
                  </a:lnTo>
                  <a:lnTo>
                    <a:pt x="239" y="648"/>
                  </a:lnTo>
                  <a:lnTo>
                    <a:pt x="239" y="647"/>
                  </a:lnTo>
                  <a:lnTo>
                    <a:pt x="226" y="661"/>
                  </a:lnTo>
                  <a:lnTo>
                    <a:pt x="211" y="673"/>
                  </a:lnTo>
                  <a:lnTo>
                    <a:pt x="197" y="683"/>
                  </a:lnTo>
                  <a:lnTo>
                    <a:pt x="189" y="686"/>
                  </a:lnTo>
                  <a:lnTo>
                    <a:pt x="190" y="686"/>
                  </a:lnTo>
                  <a:lnTo>
                    <a:pt x="173" y="688"/>
                  </a:lnTo>
                  <a:lnTo>
                    <a:pt x="157" y="688"/>
                  </a:lnTo>
                  <a:lnTo>
                    <a:pt x="141" y="686"/>
                  </a:lnTo>
                  <a:lnTo>
                    <a:pt x="142" y="686"/>
                  </a:lnTo>
                  <a:lnTo>
                    <a:pt x="133" y="683"/>
                  </a:lnTo>
                  <a:lnTo>
                    <a:pt x="134" y="683"/>
                  </a:lnTo>
                  <a:lnTo>
                    <a:pt x="119" y="673"/>
                  </a:lnTo>
                  <a:lnTo>
                    <a:pt x="105" y="661"/>
                  </a:lnTo>
                  <a:lnTo>
                    <a:pt x="89" y="647"/>
                  </a:lnTo>
                  <a:lnTo>
                    <a:pt x="89" y="648"/>
                  </a:lnTo>
                  <a:lnTo>
                    <a:pt x="77" y="631"/>
                  </a:lnTo>
                  <a:lnTo>
                    <a:pt x="77" y="632"/>
                  </a:lnTo>
                  <a:lnTo>
                    <a:pt x="66" y="610"/>
                  </a:lnTo>
                  <a:lnTo>
                    <a:pt x="42" y="566"/>
                  </a:lnTo>
                  <a:lnTo>
                    <a:pt x="42" y="567"/>
                  </a:lnTo>
                  <a:lnTo>
                    <a:pt x="18" y="481"/>
                  </a:lnTo>
                  <a:lnTo>
                    <a:pt x="18" y="482"/>
                  </a:lnTo>
                  <a:lnTo>
                    <a:pt x="13" y="451"/>
                  </a:lnTo>
                  <a:lnTo>
                    <a:pt x="6" y="382"/>
                  </a:lnTo>
                  <a:lnTo>
                    <a:pt x="6" y="312"/>
                  </a:lnTo>
                  <a:lnTo>
                    <a:pt x="13" y="245"/>
                  </a:lnTo>
                  <a:lnTo>
                    <a:pt x="18" y="212"/>
                  </a:lnTo>
                  <a:lnTo>
                    <a:pt x="18" y="213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53" y="104"/>
                  </a:lnTo>
                  <a:lnTo>
                    <a:pt x="77" y="63"/>
                  </a:lnTo>
                  <a:lnTo>
                    <a:pt x="89" y="47"/>
                  </a:lnTo>
                  <a:lnTo>
                    <a:pt x="120" y="19"/>
                  </a:lnTo>
                  <a:lnTo>
                    <a:pt x="119" y="20"/>
                  </a:lnTo>
                  <a:lnTo>
                    <a:pt x="133" y="13"/>
                  </a:lnTo>
                  <a:lnTo>
                    <a:pt x="141" y="10"/>
                  </a:lnTo>
                  <a:lnTo>
                    <a:pt x="157" y="6"/>
                  </a:lnTo>
                  <a:lnTo>
                    <a:pt x="165" y="6"/>
                  </a:lnTo>
                  <a:lnTo>
                    <a:pt x="167" y="5"/>
                  </a:lnTo>
                  <a:lnTo>
                    <a:pt x="168" y="4"/>
                  </a:lnTo>
                  <a:lnTo>
                    <a:pt x="168" y="2"/>
                  </a:lnTo>
                  <a:lnTo>
                    <a:pt x="167" y="1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40" y="4"/>
                  </a:lnTo>
                  <a:lnTo>
                    <a:pt x="131" y="8"/>
                  </a:lnTo>
                  <a:lnTo>
                    <a:pt x="116" y="15"/>
                  </a:lnTo>
                  <a:lnTo>
                    <a:pt x="85" y="43"/>
                  </a:lnTo>
                  <a:lnTo>
                    <a:pt x="73" y="60"/>
                  </a:lnTo>
                  <a:lnTo>
                    <a:pt x="48" y="101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12" y="211"/>
                  </a:lnTo>
                  <a:lnTo>
                    <a:pt x="12" y="212"/>
                  </a:lnTo>
                  <a:lnTo>
                    <a:pt x="7" y="244"/>
                  </a:lnTo>
                  <a:lnTo>
                    <a:pt x="0" y="312"/>
                  </a:lnTo>
                  <a:lnTo>
                    <a:pt x="0" y="382"/>
                  </a:lnTo>
                  <a:lnTo>
                    <a:pt x="7" y="451"/>
                  </a:lnTo>
                  <a:lnTo>
                    <a:pt x="12" y="482"/>
                  </a:lnTo>
                  <a:lnTo>
                    <a:pt x="12" y="483"/>
                  </a:lnTo>
                  <a:lnTo>
                    <a:pt x="37" y="568"/>
                  </a:lnTo>
                  <a:lnTo>
                    <a:pt x="37" y="569"/>
                  </a:lnTo>
                  <a:lnTo>
                    <a:pt x="61" y="613"/>
                  </a:lnTo>
                  <a:lnTo>
                    <a:pt x="73" y="634"/>
                  </a:lnTo>
                  <a:lnTo>
                    <a:pt x="85" y="651"/>
                  </a:lnTo>
                  <a:lnTo>
                    <a:pt x="101" y="665"/>
                  </a:lnTo>
                  <a:lnTo>
                    <a:pt x="116" y="677"/>
                  </a:lnTo>
                  <a:lnTo>
                    <a:pt x="116" y="678"/>
                  </a:lnTo>
                  <a:lnTo>
                    <a:pt x="131" y="688"/>
                  </a:lnTo>
                  <a:lnTo>
                    <a:pt x="139" y="691"/>
                  </a:lnTo>
                  <a:lnTo>
                    <a:pt x="140" y="692"/>
                  </a:lnTo>
                  <a:lnTo>
                    <a:pt x="157" y="693"/>
                  </a:lnTo>
                  <a:lnTo>
                    <a:pt x="173" y="693"/>
                  </a:lnTo>
                  <a:lnTo>
                    <a:pt x="190" y="692"/>
                  </a:lnTo>
                  <a:lnTo>
                    <a:pt x="191" y="691"/>
                  </a:lnTo>
                  <a:lnTo>
                    <a:pt x="200" y="688"/>
                  </a:lnTo>
                  <a:lnTo>
                    <a:pt x="214" y="678"/>
                  </a:lnTo>
                  <a:lnTo>
                    <a:pt x="214" y="677"/>
                  </a:lnTo>
                  <a:lnTo>
                    <a:pt x="229" y="665"/>
                  </a:lnTo>
                  <a:lnTo>
                    <a:pt x="244" y="651"/>
                  </a:lnTo>
                  <a:lnTo>
                    <a:pt x="271" y="613"/>
                  </a:lnTo>
                  <a:lnTo>
                    <a:pt x="282" y="591"/>
                  </a:lnTo>
                  <a:lnTo>
                    <a:pt x="292" y="569"/>
                  </a:lnTo>
                  <a:lnTo>
                    <a:pt x="292" y="568"/>
                  </a:lnTo>
                  <a:lnTo>
                    <a:pt x="302" y="539"/>
                  </a:lnTo>
                  <a:lnTo>
                    <a:pt x="311" y="511"/>
                  </a:lnTo>
                  <a:lnTo>
                    <a:pt x="317" y="482"/>
                  </a:lnTo>
                  <a:lnTo>
                    <a:pt x="327" y="417"/>
                  </a:lnTo>
                  <a:lnTo>
                    <a:pt x="330" y="346"/>
                  </a:lnTo>
                  <a:lnTo>
                    <a:pt x="327" y="278"/>
                  </a:lnTo>
                  <a:lnTo>
                    <a:pt x="327" y="277"/>
                  </a:lnTo>
                  <a:lnTo>
                    <a:pt x="317" y="212"/>
                  </a:lnTo>
                  <a:lnTo>
                    <a:pt x="311" y="183"/>
                  </a:lnTo>
                  <a:lnTo>
                    <a:pt x="311" y="182"/>
                  </a:lnTo>
                  <a:lnTo>
                    <a:pt x="302" y="155"/>
                  </a:lnTo>
                  <a:lnTo>
                    <a:pt x="292" y="128"/>
                  </a:lnTo>
                  <a:lnTo>
                    <a:pt x="292" y="127"/>
                  </a:lnTo>
                  <a:lnTo>
                    <a:pt x="283" y="101"/>
                  </a:lnTo>
                  <a:lnTo>
                    <a:pt x="282" y="101"/>
                  </a:lnTo>
                  <a:lnTo>
                    <a:pt x="271" y="81"/>
                  </a:lnTo>
                  <a:lnTo>
                    <a:pt x="244" y="43"/>
                  </a:lnTo>
                  <a:lnTo>
                    <a:pt x="214" y="15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1" y="4"/>
                  </a:lnTo>
                  <a:lnTo>
                    <a:pt x="190" y="4"/>
                  </a:lnTo>
                  <a:lnTo>
                    <a:pt x="173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5902200" y="4538520"/>
              <a:ext cx="39240" cy="84240"/>
            </a:xfrm>
            <a:custGeom>
              <a:avLst/>
              <a:gdLst/>
              <a:ahLst/>
              <a:rect l="l" t="t" r="r" b="b"/>
              <a:pathLst>
                <a:path w="325" h="689">
                  <a:moveTo>
                    <a:pt x="166" y="0"/>
                  </a:moveTo>
                  <a:lnTo>
                    <a:pt x="172" y="0"/>
                  </a:lnTo>
                  <a:lnTo>
                    <a:pt x="189" y="5"/>
                  </a:lnTo>
                  <a:lnTo>
                    <a:pt x="197" y="8"/>
                  </a:lnTo>
                  <a:lnTo>
                    <a:pt x="212" y="15"/>
                  </a:lnTo>
                  <a:lnTo>
                    <a:pt x="226" y="26"/>
                  </a:lnTo>
                  <a:lnTo>
                    <a:pt x="241" y="42"/>
                  </a:lnTo>
                  <a:lnTo>
                    <a:pt x="254" y="59"/>
                  </a:lnTo>
                  <a:lnTo>
                    <a:pt x="279" y="100"/>
                  </a:lnTo>
                  <a:lnTo>
                    <a:pt x="289" y="126"/>
                  </a:lnTo>
                  <a:lnTo>
                    <a:pt x="297" y="152"/>
                  </a:lnTo>
                  <a:lnTo>
                    <a:pt x="314" y="209"/>
                  </a:lnTo>
                  <a:lnTo>
                    <a:pt x="320" y="242"/>
                  </a:lnTo>
                  <a:lnTo>
                    <a:pt x="325" y="309"/>
                  </a:lnTo>
                  <a:lnTo>
                    <a:pt x="325" y="379"/>
                  </a:lnTo>
                  <a:lnTo>
                    <a:pt x="321" y="412"/>
                  </a:lnTo>
                  <a:lnTo>
                    <a:pt x="320" y="447"/>
                  </a:lnTo>
                  <a:lnTo>
                    <a:pt x="314" y="478"/>
                  </a:lnTo>
                  <a:lnTo>
                    <a:pt x="297" y="535"/>
                  </a:lnTo>
                  <a:lnTo>
                    <a:pt x="289" y="563"/>
                  </a:lnTo>
                  <a:lnTo>
                    <a:pt x="266" y="609"/>
                  </a:lnTo>
                  <a:lnTo>
                    <a:pt x="254" y="630"/>
                  </a:lnTo>
                  <a:lnTo>
                    <a:pt x="241" y="645"/>
                  </a:lnTo>
                  <a:lnTo>
                    <a:pt x="226" y="660"/>
                  </a:lnTo>
                  <a:lnTo>
                    <a:pt x="212" y="673"/>
                  </a:lnTo>
                  <a:lnTo>
                    <a:pt x="197" y="683"/>
                  </a:lnTo>
                  <a:lnTo>
                    <a:pt x="189" y="684"/>
                  </a:lnTo>
                  <a:lnTo>
                    <a:pt x="181" y="688"/>
                  </a:lnTo>
                  <a:lnTo>
                    <a:pt x="172" y="689"/>
                  </a:lnTo>
                  <a:lnTo>
                    <a:pt x="156" y="689"/>
                  </a:lnTo>
                  <a:lnTo>
                    <a:pt x="148" y="688"/>
                  </a:lnTo>
                  <a:lnTo>
                    <a:pt x="140" y="684"/>
                  </a:lnTo>
                  <a:lnTo>
                    <a:pt x="131" y="683"/>
                  </a:lnTo>
                  <a:lnTo>
                    <a:pt x="117" y="673"/>
                  </a:lnTo>
                  <a:lnTo>
                    <a:pt x="102" y="660"/>
                  </a:lnTo>
                  <a:lnTo>
                    <a:pt x="86" y="645"/>
                  </a:lnTo>
                  <a:lnTo>
                    <a:pt x="74" y="630"/>
                  </a:lnTo>
                  <a:lnTo>
                    <a:pt x="61" y="609"/>
                  </a:lnTo>
                  <a:lnTo>
                    <a:pt x="48" y="586"/>
                  </a:lnTo>
                  <a:lnTo>
                    <a:pt x="30" y="535"/>
                  </a:lnTo>
                  <a:lnTo>
                    <a:pt x="22" y="508"/>
                  </a:lnTo>
                  <a:lnTo>
                    <a:pt x="14" y="478"/>
                  </a:lnTo>
                  <a:lnTo>
                    <a:pt x="6" y="412"/>
                  </a:lnTo>
                  <a:lnTo>
                    <a:pt x="0" y="344"/>
                  </a:lnTo>
                  <a:lnTo>
                    <a:pt x="6" y="275"/>
                  </a:lnTo>
                  <a:lnTo>
                    <a:pt x="14" y="209"/>
                  </a:lnTo>
                  <a:lnTo>
                    <a:pt x="22" y="180"/>
                  </a:lnTo>
                  <a:lnTo>
                    <a:pt x="30" y="152"/>
                  </a:lnTo>
                  <a:lnTo>
                    <a:pt x="48" y="100"/>
                  </a:lnTo>
                  <a:lnTo>
                    <a:pt x="61" y="80"/>
                  </a:lnTo>
                  <a:lnTo>
                    <a:pt x="86" y="42"/>
                  </a:lnTo>
                  <a:lnTo>
                    <a:pt x="102" y="26"/>
                  </a:lnTo>
                  <a:lnTo>
                    <a:pt x="117" y="15"/>
                  </a:lnTo>
                  <a:lnTo>
                    <a:pt x="131" y="8"/>
                  </a:lnTo>
                  <a:lnTo>
                    <a:pt x="140" y="5"/>
                  </a:lnTo>
                  <a:lnTo>
                    <a:pt x="156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5902200" y="4538520"/>
              <a:ext cx="39240" cy="86040"/>
            </a:xfrm>
            <a:custGeom>
              <a:avLst/>
              <a:gdLst/>
              <a:ahLst/>
              <a:rect l="l" t="t" r="r" b="b"/>
              <a:pathLst>
                <a:path w="330" h="695">
                  <a:moveTo>
                    <a:pt x="168" y="0"/>
                  </a:moveTo>
                  <a:lnTo>
                    <a:pt x="167" y="0"/>
                  </a:lnTo>
                  <a:lnTo>
                    <a:pt x="166" y="1"/>
                  </a:lnTo>
                  <a:lnTo>
                    <a:pt x="164" y="2"/>
                  </a:lnTo>
                  <a:lnTo>
                    <a:pt x="164" y="4"/>
                  </a:lnTo>
                  <a:lnTo>
                    <a:pt x="164" y="6"/>
                  </a:lnTo>
                  <a:lnTo>
                    <a:pt x="166" y="6"/>
                  </a:lnTo>
                  <a:lnTo>
                    <a:pt x="167" y="7"/>
                  </a:lnTo>
                  <a:lnTo>
                    <a:pt x="174" y="7"/>
                  </a:lnTo>
                  <a:lnTo>
                    <a:pt x="191" y="10"/>
                  </a:lnTo>
                  <a:lnTo>
                    <a:pt x="190" y="10"/>
                  </a:lnTo>
                  <a:lnTo>
                    <a:pt x="198" y="14"/>
                  </a:lnTo>
                  <a:lnTo>
                    <a:pt x="198" y="13"/>
                  </a:lnTo>
                  <a:lnTo>
                    <a:pt x="213" y="20"/>
                  </a:lnTo>
                  <a:lnTo>
                    <a:pt x="212" y="20"/>
                  </a:lnTo>
                  <a:lnTo>
                    <a:pt x="227" y="31"/>
                  </a:lnTo>
                  <a:lnTo>
                    <a:pt x="226" y="31"/>
                  </a:lnTo>
                  <a:lnTo>
                    <a:pt x="241" y="47"/>
                  </a:lnTo>
                  <a:lnTo>
                    <a:pt x="254" y="64"/>
                  </a:lnTo>
                  <a:lnTo>
                    <a:pt x="278" y="104"/>
                  </a:lnTo>
                  <a:lnTo>
                    <a:pt x="288" y="130"/>
                  </a:lnTo>
                  <a:lnTo>
                    <a:pt x="296" y="156"/>
                  </a:lnTo>
                  <a:lnTo>
                    <a:pt x="314" y="213"/>
                  </a:lnTo>
                  <a:lnTo>
                    <a:pt x="319" y="246"/>
                  </a:lnTo>
                  <a:lnTo>
                    <a:pt x="324" y="313"/>
                  </a:lnTo>
                  <a:lnTo>
                    <a:pt x="324" y="312"/>
                  </a:lnTo>
                  <a:lnTo>
                    <a:pt x="324" y="382"/>
                  </a:lnTo>
                  <a:lnTo>
                    <a:pt x="320" y="415"/>
                  </a:lnTo>
                  <a:lnTo>
                    <a:pt x="319" y="450"/>
                  </a:lnTo>
                  <a:lnTo>
                    <a:pt x="319" y="449"/>
                  </a:lnTo>
                  <a:lnTo>
                    <a:pt x="314" y="481"/>
                  </a:lnTo>
                  <a:lnTo>
                    <a:pt x="314" y="480"/>
                  </a:lnTo>
                  <a:lnTo>
                    <a:pt x="296" y="538"/>
                  </a:lnTo>
                  <a:lnTo>
                    <a:pt x="288" y="565"/>
                  </a:lnTo>
                  <a:lnTo>
                    <a:pt x="266" y="611"/>
                  </a:lnTo>
                  <a:lnTo>
                    <a:pt x="266" y="610"/>
                  </a:lnTo>
                  <a:lnTo>
                    <a:pt x="254" y="631"/>
                  </a:lnTo>
                  <a:lnTo>
                    <a:pt x="226" y="661"/>
                  </a:lnTo>
                  <a:lnTo>
                    <a:pt x="227" y="661"/>
                  </a:lnTo>
                  <a:lnTo>
                    <a:pt x="212" y="674"/>
                  </a:lnTo>
                  <a:lnTo>
                    <a:pt x="212" y="673"/>
                  </a:lnTo>
                  <a:lnTo>
                    <a:pt x="198" y="683"/>
                  </a:lnTo>
                  <a:lnTo>
                    <a:pt x="199" y="683"/>
                  </a:lnTo>
                  <a:lnTo>
                    <a:pt x="191" y="684"/>
                  </a:lnTo>
                  <a:lnTo>
                    <a:pt x="190" y="685"/>
                  </a:lnTo>
                  <a:lnTo>
                    <a:pt x="181" y="688"/>
                  </a:lnTo>
                  <a:lnTo>
                    <a:pt x="182" y="688"/>
                  </a:lnTo>
                  <a:lnTo>
                    <a:pt x="174" y="690"/>
                  </a:lnTo>
                  <a:lnTo>
                    <a:pt x="158" y="690"/>
                  </a:lnTo>
                  <a:lnTo>
                    <a:pt x="159" y="690"/>
                  </a:lnTo>
                  <a:lnTo>
                    <a:pt x="150" y="688"/>
                  </a:lnTo>
                  <a:lnTo>
                    <a:pt x="151" y="688"/>
                  </a:lnTo>
                  <a:lnTo>
                    <a:pt x="143" y="685"/>
                  </a:lnTo>
                  <a:lnTo>
                    <a:pt x="142" y="684"/>
                  </a:lnTo>
                  <a:lnTo>
                    <a:pt x="134" y="683"/>
                  </a:lnTo>
                  <a:lnTo>
                    <a:pt x="135" y="683"/>
                  </a:lnTo>
                  <a:lnTo>
                    <a:pt x="121" y="673"/>
                  </a:lnTo>
                  <a:lnTo>
                    <a:pt x="121" y="674"/>
                  </a:lnTo>
                  <a:lnTo>
                    <a:pt x="105" y="661"/>
                  </a:lnTo>
                  <a:lnTo>
                    <a:pt x="106" y="661"/>
                  </a:lnTo>
                  <a:lnTo>
                    <a:pt x="90" y="646"/>
                  </a:lnTo>
                  <a:lnTo>
                    <a:pt x="78" y="631"/>
                  </a:lnTo>
                  <a:lnTo>
                    <a:pt x="65" y="610"/>
                  </a:lnTo>
                  <a:lnTo>
                    <a:pt x="65" y="611"/>
                  </a:lnTo>
                  <a:lnTo>
                    <a:pt x="52" y="588"/>
                  </a:lnTo>
                  <a:lnTo>
                    <a:pt x="53" y="588"/>
                  </a:lnTo>
                  <a:lnTo>
                    <a:pt x="35" y="538"/>
                  </a:lnTo>
                  <a:lnTo>
                    <a:pt x="26" y="510"/>
                  </a:lnTo>
                  <a:lnTo>
                    <a:pt x="20" y="480"/>
                  </a:lnTo>
                  <a:lnTo>
                    <a:pt x="20" y="481"/>
                  </a:lnTo>
                  <a:lnTo>
                    <a:pt x="10" y="415"/>
                  </a:lnTo>
                  <a:lnTo>
                    <a:pt x="5" y="346"/>
                  </a:lnTo>
                  <a:lnTo>
                    <a:pt x="5" y="347"/>
                  </a:lnTo>
                  <a:lnTo>
                    <a:pt x="10" y="278"/>
                  </a:lnTo>
                  <a:lnTo>
                    <a:pt x="20" y="213"/>
                  </a:lnTo>
                  <a:lnTo>
                    <a:pt x="26" y="184"/>
                  </a:lnTo>
                  <a:lnTo>
                    <a:pt x="35" y="156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65" y="84"/>
                  </a:lnTo>
                  <a:lnTo>
                    <a:pt x="90" y="47"/>
                  </a:lnTo>
                  <a:lnTo>
                    <a:pt x="106" y="31"/>
                  </a:lnTo>
                  <a:lnTo>
                    <a:pt x="105" y="31"/>
                  </a:lnTo>
                  <a:lnTo>
                    <a:pt x="121" y="20"/>
                  </a:lnTo>
                  <a:lnTo>
                    <a:pt x="120" y="20"/>
                  </a:lnTo>
                  <a:lnTo>
                    <a:pt x="135" y="13"/>
                  </a:lnTo>
                  <a:lnTo>
                    <a:pt x="134" y="14"/>
                  </a:lnTo>
                  <a:lnTo>
                    <a:pt x="142" y="10"/>
                  </a:lnTo>
                  <a:lnTo>
                    <a:pt x="159" y="7"/>
                  </a:lnTo>
                  <a:lnTo>
                    <a:pt x="158" y="7"/>
                  </a:lnTo>
                  <a:lnTo>
                    <a:pt x="168" y="7"/>
                  </a:lnTo>
                  <a:lnTo>
                    <a:pt x="169" y="6"/>
                  </a:lnTo>
                  <a:lnTo>
                    <a:pt x="170" y="6"/>
                  </a:lnTo>
                  <a:lnTo>
                    <a:pt x="170" y="4"/>
                  </a:lnTo>
                  <a:lnTo>
                    <a:pt x="170" y="2"/>
                  </a:lnTo>
                  <a:lnTo>
                    <a:pt x="170" y="1"/>
                  </a:lnTo>
                  <a:lnTo>
                    <a:pt x="169" y="1"/>
                  </a:lnTo>
                  <a:lnTo>
                    <a:pt x="168" y="0"/>
                  </a:lnTo>
                  <a:lnTo>
                    <a:pt x="158" y="0"/>
                  </a:lnTo>
                  <a:lnTo>
                    <a:pt x="141" y="4"/>
                  </a:lnTo>
                  <a:lnTo>
                    <a:pt x="133" y="8"/>
                  </a:lnTo>
                  <a:lnTo>
                    <a:pt x="132" y="8"/>
                  </a:lnTo>
                  <a:lnTo>
                    <a:pt x="118" y="15"/>
                  </a:lnTo>
                  <a:lnTo>
                    <a:pt x="117" y="15"/>
                  </a:lnTo>
                  <a:lnTo>
                    <a:pt x="102" y="27"/>
                  </a:lnTo>
                  <a:lnTo>
                    <a:pt x="86" y="43"/>
                  </a:lnTo>
                  <a:lnTo>
                    <a:pt x="85" y="43"/>
                  </a:lnTo>
                  <a:lnTo>
                    <a:pt x="61" y="81"/>
                  </a:lnTo>
                  <a:lnTo>
                    <a:pt x="48" y="101"/>
                  </a:lnTo>
                  <a:lnTo>
                    <a:pt x="47" y="102"/>
                  </a:lnTo>
                  <a:lnTo>
                    <a:pt x="29" y="154"/>
                  </a:lnTo>
                  <a:lnTo>
                    <a:pt x="21" y="183"/>
                  </a:lnTo>
                  <a:lnTo>
                    <a:pt x="13" y="212"/>
                  </a:lnTo>
                  <a:lnTo>
                    <a:pt x="5" y="277"/>
                  </a:lnTo>
                  <a:lnTo>
                    <a:pt x="0" y="346"/>
                  </a:lnTo>
                  <a:lnTo>
                    <a:pt x="0" y="347"/>
                  </a:lnTo>
                  <a:lnTo>
                    <a:pt x="5" y="416"/>
                  </a:lnTo>
                  <a:lnTo>
                    <a:pt x="13" y="481"/>
                  </a:lnTo>
                  <a:lnTo>
                    <a:pt x="13" y="483"/>
                  </a:lnTo>
                  <a:lnTo>
                    <a:pt x="21" y="511"/>
                  </a:lnTo>
                  <a:lnTo>
                    <a:pt x="29" y="539"/>
                  </a:lnTo>
                  <a:lnTo>
                    <a:pt x="47" y="590"/>
                  </a:lnTo>
                  <a:lnTo>
                    <a:pt x="48" y="590"/>
                  </a:lnTo>
                  <a:lnTo>
                    <a:pt x="61" y="613"/>
                  </a:lnTo>
                  <a:lnTo>
                    <a:pt x="61" y="614"/>
                  </a:lnTo>
                  <a:lnTo>
                    <a:pt x="74" y="634"/>
                  </a:lnTo>
                  <a:lnTo>
                    <a:pt x="86" y="649"/>
                  </a:lnTo>
                  <a:lnTo>
                    <a:pt x="86" y="650"/>
                  </a:lnTo>
                  <a:lnTo>
                    <a:pt x="102" y="665"/>
                  </a:lnTo>
                  <a:lnTo>
                    <a:pt x="117" y="678"/>
                  </a:lnTo>
                  <a:lnTo>
                    <a:pt x="132" y="688"/>
                  </a:lnTo>
                  <a:lnTo>
                    <a:pt x="133" y="688"/>
                  </a:lnTo>
                  <a:lnTo>
                    <a:pt x="141" y="690"/>
                  </a:lnTo>
                  <a:lnTo>
                    <a:pt x="149" y="693"/>
                  </a:lnTo>
                  <a:lnTo>
                    <a:pt x="150" y="694"/>
                  </a:lnTo>
                  <a:lnTo>
                    <a:pt x="158" y="695"/>
                  </a:lnTo>
                  <a:lnTo>
                    <a:pt x="174" y="695"/>
                  </a:lnTo>
                  <a:lnTo>
                    <a:pt x="183" y="694"/>
                  </a:lnTo>
                  <a:lnTo>
                    <a:pt x="184" y="693"/>
                  </a:lnTo>
                  <a:lnTo>
                    <a:pt x="192" y="690"/>
                  </a:lnTo>
                  <a:lnTo>
                    <a:pt x="191" y="690"/>
                  </a:lnTo>
                  <a:lnTo>
                    <a:pt x="200" y="688"/>
                  </a:lnTo>
                  <a:lnTo>
                    <a:pt x="201" y="688"/>
                  </a:lnTo>
                  <a:lnTo>
                    <a:pt x="215" y="678"/>
                  </a:lnTo>
                  <a:lnTo>
                    <a:pt x="230" y="665"/>
                  </a:lnTo>
                  <a:lnTo>
                    <a:pt x="258" y="635"/>
                  </a:lnTo>
                  <a:lnTo>
                    <a:pt x="259" y="634"/>
                  </a:lnTo>
                  <a:lnTo>
                    <a:pt x="271" y="614"/>
                  </a:lnTo>
                  <a:lnTo>
                    <a:pt x="271" y="613"/>
                  </a:lnTo>
                  <a:lnTo>
                    <a:pt x="293" y="567"/>
                  </a:lnTo>
                  <a:lnTo>
                    <a:pt x="302" y="539"/>
                  </a:lnTo>
                  <a:lnTo>
                    <a:pt x="319" y="483"/>
                  </a:lnTo>
                  <a:lnTo>
                    <a:pt x="319" y="481"/>
                  </a:lnTo>
                  <a:lnTo>
                    <a:pt x="324" y="450"/>
                  </a:lnTo>
                  <a:lnTo>
                    <a:pt x="326" y="415"/>
                  </a:lnTo>
                  <a:lnTo>
                    <a:pt x="326" y="416"/>
                  </a:lnTo>
                  <a:lnTo>
                    <a:pt x="330" y="383"/>
                  </a:lnTo>
                  <a:lnTo>
                    <a:pt x="330" y="382"/>
                  </a:lnTo>
                  <a:lnTo>
                    <a:pt x="330" y="312"/>
                  </a:lnTo>
                  <a:lnTo>
                    <a:pt x="324" y="245"/>
                  </a:lnTo>
                  <a:lnTo>
                    <a:pt x="319" y="212"/>
                  </a:lnTo>
                  <a:lnTo>
                    <a:pt x="302" y="154"/>
                  </a:lnTo>
                  <a:lnTo>
                    <a:pt x="293" y="128"/>
                  </a:lnTo>
                  <a:lnTo>
                    <a:pt x="283" y="101"/>
                  </a:lnTo>
                  <a:lnTo>
                    <a:pt x="259" y="60"/>
                  </a:lnTo>
                  <a:lnTo>
                    <a:pt x="258" y="60"/>
                  </a:lnTo>
                  <a:lnTo>
                    <a:pt x="245" y="43"/>
                  </a:lnTo>
                  <a:lnTo>
                    <a:pt x="230" y="27"/>
                  </a:lnTo>
                  <a:lnTo>
                    <a:pt x="215" y="15"/>
                  </a:lnTo>
                  <a:lnTo>
                    <a:pt x="200" y="8"/>
                  </a:lnTo>
                  <a:lnTo>
                    <a:pt x="192" y="4"/>
                  </a:lnTo>
                  <a:lnTo>
                    <a:pt x="191" y="4"/>
                  </a:lnTo>
                  <a:lnTo>
                    <a:pt x="174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18" h="896">
                  <a:moveTo>
                    <a:pt x="61" y="432"/>
                  </a:moveTo>
                  <a:lnTo>
                    <a:pt x="90" y="480"/>
                  </a:lnTo>
                  <a:lnTo>
                    <a:pt x="149" y="565"/>
                  </a:lnTo>
                  <a:lnTo>
                    <a:pt x="180" y="603"/>
                  </a:lnTo>
                  <a:lnTo>
                    <a:pt x="210" y="638"/>
                  </a:lnTo>
                  <a:lnTo>
                    <a:pt x="271" y="702"/>
                  </a:lnTo>
                  <a:lnTo>
                    <a:pt x="336" y="757"/>
                  </a:lnTo>
                  <a:lnTo>
                    <a:pt x="367" y="781"/>
                  </a:lnTo>
                  <a:lnTo>
                    <a:pt x="400" y="802"/>
                  </a:lnTo>
                  <a:lnTo>
                    <a:pt x="462" y="836"/>
                  </a:lnTo>
                  <a:lnTo>
                    <a:pt x="497" y="851"/>
                  </a:lnTo>
                  <a:lnTo>
                    <a:pt x="529" y="863"/>
                  </a:lnTo>
                  <a:lnTo>
                    <a:pt x="564" y="874"/>
                  </a:lnTo>
                  <a:lnTo>
                    <a:pt x="629" y="889"/>
                  </a:lnTo>
                  <a:lnTo>
                    <a:pt x="664" y="894"/>
                  </a:lnTo>
                  <a:lnTo>
                    <a:pt x="732" y="896"/>
                  </a:lnTo>
                  <a:lnTo>
                    <a:pt x="766" y="896"/>
                  </a:lnTo>
                  <a:lnTo>
                    <a:pt x="832" y="891"/>
                  </a:lnTo>
                  <a:lnTo>
                    <a:pt x="899" y="877"/>
                  </a:lnTo>
                  <a:lnTo>
                    <a:pt x="936" y="868"/>
                  </a:lnTo>
                  <a:lnTo>
                    <a:pt x="1004" y="850"/>
                  </a:lnTo>
                  <a:lnTo>
                    <a:pt x="1071" y="822"/>
                  </a:lnTo>
                  <a:lnTo>
                    <a:pt x="1105" y="809"/>
                  </a:lnTo>
                  <a:lnTo>
                    <a:pt x="1207" y="758"/>
                  </a:lnTo>
                  <a:lnTo>
                    <a:pt x="1238" y="740"/>
                  </a:lnTo>
                  <a:lnTo>
                    <a:pt x="1306" y="701"/>
                  </a:lnTo>
                  <a:lnTo>
                    <a:pt x="1373" y="658"/>
                  </a:lnTo>
                  <a:lnTo>
                    <a:pt x="1436" y="614"/>
                  </a:lnTo>
                  <a:lnTo>
                    <a:pt x="1502" y="565"/>
                  </a:lnTo>
                  <a:lnTo>
                    <a:pt x="1625" y="466"/>
                  </a:lnTo>
                  <a:lnTo>
                    <a:pt x="1687" y="416"/>
                  </a:lnTo>
                  <a:lnTo>
                    <a:pt x="1857" y="264"/>
                  </a:lnTo>
                  <a:lnTo>
                    <a:pt x="1962" y="165"/>
                  </a:lnTo>
                  <a:lnTo>
                    <a:pt x="2060" y="77"/>
                  </a:lnTo>
                  <a:lnTo>
                    <a:pt x="2070" y="95"/>
                  </a:lnTo>
                  <a:lnTo>
                    <a:pt x="2082" y="110"/>
                  </a:lnTo>
                  <a:lnTo>
                    <a:pt x="2088" y="114"/>
                  </a:lnTo>
                  <a:lnTo>
                    <a:pt x="2095" y="116"/>
                  </a:lnTo>
                  <a:lnTo>
                    <a:pt x="2099" y="118"/>
                  </a:lnTo>
                  <a:lnTo>
                    <a:pt x="2104" y="116"/>
                  </a:lnTo>
                  <a:lnTo>
                    <a:pt x="2110" y="113"/>
                  </a:lnTo>
                  <a:lnTo>
                    <a:pt x="2114" y="108"/>
                  </a:lnTo>
                  <a:lnTo>
                    <a:pt x="2118" y="94"/>
                  </a:lnTo>
                  <a:lnTo>
                    <a:pt x="2118" y="83"/>
                  </a:lnTo>
                  <a:lnTo>
                    <a:pt x="2116" y="72"/>
                  </a:lnTo>
                  <a:lnTo>
                    <a:pt x="2110" y="49"/>
                  </a:lnTo>
                  <a:lnTo>
                    <a:pt x="2104" y="37"/>
                  </a:lnTo>
                  <a:lnTo>
                    <a:pt x="2091" y="18"/>
                  </a:lnTo>
                  <a:lnTo>
                    <a:pt x="2079" y="5"/>
                  </a:lnTo>
                  <a:lnTo>
                    <a:pt x="2072" y="1"/>
                  </a:lnTo>
                  <a:lnTo>
                    <a:pt x="2067" y="0"/>
                  </a:lnTo>
                  <a:lnTo>
                    <a:pt x="2060" y="1"/>
                  </a:lnTo>
                  <a:lnTo>
                    <a:pt x="2055" y="3"/>
                  </a:lnTo>
                  <a:lnTo>
                    <a:pt x="2052" y="8"/>
                  </a:lnTo>
                  <a:lnTo>
                    <a:pt x="2047" y="20"/>
                  </a:lnTo>
                  <a:lnTo>
                    <a:pt x="2047" y="37"/>
                  </a:lnTo>
                  <a:lnTo>
                    <a:pt x="2052" y="57"/>
                  </a:lnTo>
                  <a:lnTo>
                    <a:pt x="2050" y="57"/>
                  </a:lnTo>
                  <a:lnTo>
                    <a:pt x="2045" y="59"/>
                  </a:lnTo>
                  <a:lnTo>
                    <a:pt x="2044" y="59"/>
                  </a:lnTo>
                  <a:lnTo>
                    <a:pt x="2044" y="64"/>
                  </a:lnTo>
                  <a:lnTo>
                    <a:pt x="1873" y="224"/>
                  </a:lnTo>
                  <a:lnTo>
                    <a:pt x="1821" y="270"/>
                  </a:lnTo>
                  <a:lnTo>
                    <a:pt x="1771" y="316"/>
                  </a:lnTo>
                  <a:lnTo>
                    <a:pt x="1715" y="363"/>
                  </a:lnTo>
                  <a:lnTo>
                    <a:pt x="1659" y="409"/>
                  </a:lnTo>
                  <a:lnTo>
                    <a:pt x="1600" y="453"/>
                  </a:lnTo>
                  <a:lnTo>
                    <a:pt x="1539" y="498"/>
                  </a:lnTo>
                  <a:lnTo>
                    <a:pt x="1477" y="543"/>
                  </a:lnTo>
                  <a:lnTo>
                    <a:pt x="1415" y="584"/>
                  </a:lnTo>
                  <a:lnTo>
                    <a:pt x="1348" y="625"/>
                  </a:lnTo>
                  <a:lnTo>
                    <a:pt x="1284" y="663"/>
                  </a:lnTo>
                  <a:lnTo>
                    <a:pt x="1249" y="680"/>
                  </a:lnTo>
                  <a:lnTo>
                    <a:pt x="1215" y="697"/>
                  </a:lnTo>
                  <a:lnTo>
                    <a:pt x="1182" y="712"/>
                  </a:lnTo>
                  <a:lnTo>
                    <a:pt x="1148" y="730"/>
                  </a:lnTo>
                  <a:lnTo>
                    <a:pt x="1045" y="769"/>
                  </a:lnTo>
                  <a:lnTo>
                    <a:pt x="975" y="788"/>
                  </a:lnTo>
                  <a:lnTo>
                    <a:pt x="905" y="805"/>
                  </a:lnTo>
                  <a:lnTo>
                    <a:pt x="834" y="816"/>
                  </a:lnTo>
                  <a:lnTo>
                    <a:pt x="800" y="817"/>
                  </a:lnTo>
                  <a:lnTo>
                    <a:pt x="766" y="820"/>
                  </a:lnTo>
                  <a:lnTo>
                    <a:pt x="732" y="820"/>
                  </a:lnTo>
                  <a:lnTo>
                    <a:pt x="698" y="817"/>
                  </a:lnTo>
                  <a:lnTo>
                    <a:pt x="626" y="812"/>
                  </a:lnTo>
                  <a:lnTo>
                    <a:pt x="591" y="805"/>
                  </a:lnTo>
                  <a:lnTo>
                    <a:pt x="524" y="785"/>
                  </a:lnTo>
                  <a:lnTo>
                    <a:pt x="490" y="773"/>
                  </a:lnTo>
                  <a:lnTo>
                    <a:pt x="456" y="758"/>
                  </a:lnTo>
                  <a:lnTo>
                    <a:pt x="388" y="725"/>
                  </a:lnTo>
                  <a:lnTo>
                    <a:pt x="356" y="704"/>
                  </a:lnTo>
                  <a:lnTo>
                    <a:pt x="291" y="658"/>
                  </a:lnTo>
                  <a:lnTo>
                    <a:pt x="259" y="630"/>
                  </a:lnTo>
                  <a:lnTo>
                    <a:pt x="226" y="601"/>
                  </a:lnTo>
                  <a:lnTo>
                    <a:pt x="195" y="568"/>
                  </a:lnTo>
                  <a:lnTo>
                    <a:pt x="133" y="498"/>
                  </a:lnTo>
                  <a:lnTo>
                    <a:pt x="102" y="457"/>
                  </a:lnTo>
                  <a:lnTo>
                    <a:pt x="74" y="418"/>
                  </a:lnTo>
                  <a:lnTo>
                    <a:pt x="74" y="416"/>
                  </a:lnTo>
                  <a:lnTo>
                    <a:pt x="72" y="416"/>
                  </a:lnTo>
                  <a:lnTo>
                    <a:pt x="72" y="414"/>
                  </a:lnTo>
                  <a:lnTo>
                    <a:pt x="71" y="414"/>
                  </a:lnTo>
                  <a:lnTo>
                    <a:pt x="77" y="398"/>
                  </a:lnTo>
                  <a:lnTo>
                    <a:pt x="82" y="382"/>
                  </a:lnTo>
                  <a:lnTo>
                    <a:pt x="86" y="370"/>
                  </a:lnTo>
                  <a:lnTo>
                    <a:pt x="87" y="356"/>
                  </a:lnTo>
                  <a:lnTo>
                    <a:pt x="89" y="346"/>
                  </a:lnTo>
                  <a:lnTo>
                    <a:pt x="86" y="332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6" y="329"/>
                  </a:lnTo>
                  <a:lnTo>
                    <a:pt x="61" y="334"/>
                  </a:lnTo>
                  <a:lnTo>
                    <a:pt x="53" y="342"/>
                  </a:lnTo>
                  <a:lnTo>
                    <a:pt x="44" y="351"/>
                  </a:lnTo>
                  <a:lnTo>
                    <a:pt x="27" y="378"/>
                  </a:lnTo>
                  <a:lnTo>
                    <a:pt x="13" y="409"/>
                  </a:lnTo>
                  <a:lnTo>
                    <a:pt x="8" y="424"/>
                  </a:lnTo>
                  <a:lnTo>
                    <a:pt x="4" y="438"/>
                  </a:lnTo>
                  <a:lnTo>
                    <a:pt x="0" y="462"/>
                  </a:lnTo>
                  <a:lnTo>
                    <a:pt x="4" y="480"/>
                  </a:lnTo>
                  <a:lnTo>
                    <a:pt x="8" y="483"/>
                  </a:lnTo>
                  <a:lnTo>
                    <a:pt x="13" y="483"/>
                  </a:lnTo>
                  <a:lnTo>
                    <a:pt x="20" y="481"/>
                  </a:lnTo>
                  <a:lnTo>
                    <a:pt x="33" y="473"/>
                  </a:lnTo>
                  <a:lnTo>
                    <a:pt x="48" y="453"/>
                  </a:lnTo>
                  <a:lnTo>
                    <a:pt x="55" y="445"/>
                  </a:lnTo>
                  <a:lnTo>
                    <a:pt x="61" y="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5738400" y="4643280"/>
              <a:ext cx="258480" cy="109800"/>
            </a:xfrm>
            <a:custGeom>
              <a:avLst/>
              <a:gdLst/>
              <a:ahLst/>
              <a:rect l="l" t="t" r="r" b="b"/>
              <a:pathLst>
                <a:path w="2124" h="901">
                  <a:moveTo>
                    <a:pt x="67" y="433"/>
                  </a:move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62" y="434"/>
                  </a:lnTo>
                  <a:lnTo>
                    <a:pt x="62" y="435"/>
                  </a:lnTo>
                  <a:lnTo>
                    <a:pt x="62" y="436"/>
                  </a:lnTo>
                  <a:lnTo>
                    <a:pt x="91" y="484"/>
                  </a:lnTo>
                  <a:lnTo>
                    <a:pt x="150" y="569"/>
                  </a:lnTo>
                  <a:lnTo>
                    <a:pt x="181" y="607"/>
                  </a:lnTo>
                  <a:lnTo>
                    <a:pt x="181" y="608"/>
                  </a:lnTo>
                  <a:lnTo>
                    <a:pt x="211" y="643"/>
                  </a:lnTo>
                  <a:lnTo>
                    <a:pt x="272" y="707"/>
                  </a:lnTo>
                  <a:lnTo>
                    <a:pt x="337" y="763"/>
                  </a:lnTo>
                  <a:lnTo>
                    <a:pt x="368" y="786"/>
                  </a:lnTo>
                  <a:lnTo>
                    <a:pt x="400" y="807"/>
                  </a:lnTo>
                  <a:lnTo>
                    <a:pt x="402" y="807"/>
                  </a:lnTo>
                  <a:lnTo>
                    <a:pt x="464" y="842"/>
                  </a:lnTo>
                  <a:lnTo>
                    <a:pt x="498" y="857"/>
                  </a:lnTo>
                  <a:lnTo>
                    <a:pt x="499" y="857"/>
                  </a:lnTo>
                  <a:lnTo>
                    <a:pt x="532" y="869"/>
                  </a:lnTo>
                  <a:lnTo>
                    <a:pt x="566" y="880"/>
                  </a:lnTo>
                  <a:lnTo>
                    <a:pt x="631" y="895"/>
                  </a:lnTo>
                  <a:lnTo>
                    <a:pt x="666" y="900"/>
                  </a:lnTo>
                  <a:lnTo>
                    <a:pt x="667" y="900"/>
                  </a:lnTo>
                  <a:lnTo>
                    <a:pt x="735" y="901"/>
                  </a:lnTo>
                  <a:lnTo>
                    <a:pt x="770" y="901"/>
                  </a:lnTo>
                  <a:lnTo>
                    <a:pt x="836" y="897"/>
                  </a:lnTo>
                  <a:lnTo>
                    <a:pt x="903" y="883"/>
                  </a:lnTo>
                  <a:lnTo>
                    <a:pt x="939" y="875"/>
                  </a:lnTo>
                  <a:lnTo>
                    <a:pt x="1008" y="856"/>
                  </a:lnTo>
                  <a:lnTo>
                    <a:pt x="1008" y="855"/>
                  </a:lnTo>
                  <a:lnTo>
                    <a:pt x="1075" y="827"/>
                  </a:lnTo>
                  <a:lnTo>
                    <a:pt x="1075" y="828"/>
                  </a:lnTo>
                  <a:lnTo>
                    <a:pt x="1109" y="815"/>
                  </a:lnTo>
                  <a:lnTo>
                    <a:pt x="1109" y="814"/>
                  </a:lnTo>
                  <a:lnTo>
                    <a:pt x="1211" y="765"/>
                  </a:lnTo>
                  <a:lnTo>
                    <a:pt x="1243" y="745"/>
                  </a:lnTo>
                  <a:lnTo>
                    <a:pt x="1310" y="706"/>
                  </a:lnTo>
                  <a:lnTo>
                    <a:pt x="1377" y="663"/>
                  </a:lnTo>
                  <a:lnTo>
                    <a:pt x="1441" y="619"/>
                  </a:lnTo>
                  <a:lnTo>
                    <a:pt x="1506" y="570"/>
                  </a:lnTo>
                  <a:lnTo>
                    <a:pt x="1691" y="421"/>
                  </a:lnTo>
                  <a:lnTo>
                    <a:pt x="1692" y="421"/>
                  </a:lnTo>
                  <a:lnTo>
                    <a:pt x="1862" y="269"/>
                  </a:lnTo>
                  <a:lnTo>
                    <a:pt x="1967" y="170"/>
                  </a:lnTo>
                  <a:lnTo>
                    <a:pt x="2065" y="82"/>
                  </a:lnTo>
                  <a:lnTo>
                    <a:pt x="2061" y="81"/>
                  </a:lnTo>
                  <a:lnTo>
                    <a:pt x="2071" y="99"/>
                  </a:lnTo>
                  <a:lnTo>
                    <a:pt x="2071" y="100"/>
                  </a:lnTo>
                  <a:lnTo>
                    <a:pt x="2083" y="115"/>
                  </a:lnTo>
                  <a:lnTo>
                    <a:pt x="2088" y="119"/>
                  </a:lnTo>
                  <a:lnTo>
                    <a:pt x="2090" y="120"/>
                  </a:lnTo>
                  <a:lnTo>
                    <a:pt x="2097" y="122"/>
                  </a:lnTo>
                  <a:lnTo>
                    <a:pt x="2096" y="121"/>
                  </a:lnTo>
                  <a:lnTo>
                    <a:pt x="2101" y="123"/>
                  </a:lnTo>
                  <a:lnTo>
                    <a:pt x="2103" y="124"/>
                  </a:lnTo>
                  <a:lnTo>
                    <a:pt x="2109" y="122"/>
                  </a:lnTo>
                  <a:lnTo>
                    <a:pt x="2109" y="121"/>
                  </a:lnTo>
                  <a:lnTo>
                    <a:pt x="2114" y="118"/>
                  </a:lnTo>
                  <a:lnTo>
                    <a:pt x="2115" y="118"/>
                  </a:lnTo>
                  <a:lnTo>
                    <a:pt x="2119" y="113"/>
                  </a:lnTo>
                  <a:lnTo>
                    <a:pt x="2120" y="111"/>
                  </a:lnTo>
                  <a:lnTo>
                    <a:pt x="2124" y="97"/>
                  </a:lnTo>
                  <a:lnTo>
                    <a:pt x="2124" y="86"/>
                  </a:lnTo>
                  <a:lnTo>
                    <a:pt x="2122" y="74"/>
                  </a:lnTo>
                  <a:lnTo>
                    <a:pt x="2115" y="51"/>
                  </a:lnTo>
                  <a:lnTo>
                    <a:pt x="2110" y="39"/>
                  </a:lnTo>
                  <a:lnTo>
                    <a:pt x="2096" y="19"/>
                  </a:lnTo>
                  <a:lnTo>
                    <a:pt x="2083" y="6"/>
                  </a:lnTo>
                  <a:lnTo>
                    <a:pt x="2076" y="2"/>
                  </a:lnTo>
                  <a:lnTo>
                    <a:pt x="2070" y="0"/>
                  </a:lnTo>
                  <a:lnTo>
                    <a:pt x="2069" y="0"/>
                  </a:lnTo>
                  <a:lnTo>
                    <a:pt x="2062" y="2"/>
                  </a:lnTo>
                  <a:lnTo>
                    <a:pt x="2057" y="3"/>
                  </a:lnTo>
                  <a:lnTo>
                    <a:pt x="2056" y="4"/>
                  </a:lnTo>
                  <a:lnTo>
                    <a:pt x="2051" y="10"/>
                  </a:lnTo>
                  <a:lnTo>
                    <a:pt x="2048" y="22"/>
                  </a:lnTo>
                  <a:lnTo>
                    <a:pt x="2048" y="41"/>
                  </a:lnTo>
                  <a:lnTo>
                    <a:pt x="2051" y="61"/>
                  </a:lnTo>
                  <a:lnTo>
                    <a:pt x="2055" y="58"/>
                  </a:lnTo>
                  <a:lnTo>
                    <a:pt x="2053" y="58"/>
                  </a:lnTo>
                  <a:lnTo>
                    <a:pt x="2051" y="58"/>
                  </a:lnTo>
                  <a:lnTo>
                    <a:pt x="2047" y="60"/>
                  </a:lnTo>
                  <a:lnTo>
                    <a:pt x="2048" y="59"/>
                  </a:lnTo>
                  <a:lnTo>
                    <a:pt x="2047" y="59"/>
                  </a:lnTo>
                  <a:lnTo>
                    <a:pt x="2044" y="62"/>
                  </a:lnTo>
                  <a:lnTo>
                    <a:pt x="2044" y="67"/>
                  </a:lnTo>
                  <a:lnTo>
                    <a:pt x="2045" y="64"/>
                  </a:lnTo>
                  <a:lnTo>
                    <a:pt x="1874" y="225"/>
                  </a:lnTo>
                  <a:lnTo>
                    <a:pt x="1822" y="271"/>
                  </a:lnTo>
                  <a:lnTo>
                    <a:pt x="1772" y="317"/>
                  </a:lnTo>
                  <a:lnTo>
                    <a:pt x="1716" y="364"/>
                  </a:lnTo>
                  <a:lnTo>
                    <a:pt x="1717" y="364"/>
                  </a:lnTo>
                  <a:lnTo>
                    <a:pt x="1660" y="410"/>
                  </a:lnTo>
                  <a:lnTo>
                    <a:pt x="1602" y="454"/>
                  </a:lnTo>
                  <a:lnTo>
                    <a:pt x="1540" y="499"/>
                  </a:lnTo>
                  <a:lnTo>
                    <a:pt x="1479" y="544"/>
                  </a:lnTo>
                  <a:lnTo>
                    <a:pt x="1417" y="585"/>
                  </a:lnTo>
                  <a:lnTo>
                    <a:pt x="1350" y="626"/>
                  </a:lnTo>
                  <a:lnTo>
                    <a:pt x="1285" y="664"/>
                  </a:lnTo>
                  <a:lnTo>
                    <a:pt x="1286" y="664"/>
                  </a:lnTo>
                  <a:lnTo>
                    <a:pt x="1251" y="680"/>
                  </a:lnTo>
                  <a:lnTo>
                    <a:pt x="1217" y="698"/>
                  </a:lnTo>
                  <a:lnTo>
                    <a:pt x="1184" y="713"/>
                  </a:lnTo>
                  <a:lnTo>
                    <a:pt x="1150" y="731"/>
                  </a:lnTo>
                  <a:lnTo>
                    <a:pt x="1150" y="730"/>
                  </a:lnTo>
                  <a:lnTo>
                    <a:pt x="1047" y="770"/>
                  </a:lnTo>
                  <a:lnTo>
                    <a:pt x="977" y="788"/>
                  </a:lnTo>
                  <a:lnTo>
                    <a:pt x="907" y="806"/>
                  </a:lnTo>
                  <a:lnTo>
                    <a:pt x="837" y="816"/>
                  </a:lnTo>
                  <a:lnTo>
                    <a:pt x="803" y="817"/>
                  </a:lnTo>
                  <a:lnTo>
                    <a:pt x="802" y="817"/>
                  </a:lnTo>
                  <a:lnTo>
                    <a:pt x="769" y="821"/>
                  </a:lnTo>
                  <a:lnTo>
                    <a:pt x="735" y="821"/>
                  </a:lnTo>
                  <a:lnTo>
                    <a:pt x="701" y="817"/>
                  </a:lnTo>
                  <a:lnTo>
                    <a:pt x="629" y="812"/>
                  </a:lnTo>
                  <a:lnTo>
                    <a:pt x="594" y="806"/>
                  </a:lnTo>
                  <a:lnTo>
                    <a:pt x="595" y="806"/>
                  </a:lnTo>
                  <a:lnTo>
                    <a:pt x="528" y="785"/>
                  </a:lnTo>
                  <a:lnTo>
                    <a:pt x="494" y="773"/>
                  </a:lnTo>
                  <a:lnTo>
                    <a:pt x="460" y="759"/>
                  </a:lnTo>
                  <a:lnTo>
                    <a:pt x="393" y="726"/>
                  </a:lnTo>
                  <a:lnTo>
                    <a:pt x="360" y="704"/>
                  </a:lnTo>
                  <a:lnTo>
                    <a:pt x="296" y="659"/>
                  </a:lnTo>
                  <a:lnTo>
                    <a:pt x="264" y="631"/>
                  </a:lnTo>
                  <a:lnTo>
                    <a:pt x="231" y="602"/>
                  </a:lnTo>
                  <a:lnTo>
                    <a:pt x="200" y="569"/>
                  </a:lnTo>
                  <a:lnTo>
                    <a:pt x="138" y="499"/>
                  </a:lnTo>
                  <a:lnTo>
                    <a:pt x="139" y="499"/>
                  </a:lnTo>
                  <a:lnTo>
                    <a:pt x="109" y="458"/>
                  </a:lnTo>
                  <a:lnTo>
                    <a:pt x="79" y="419"/>
                  </a:lnTo>
                  <a:lnTo>
                    <a:pt x="80" y="421"/>
                  </a:lnTo>
                  <a:lnTo>
                    <a:pt x="80" y="419"/>
                  </a:lnTo>
                  <a:lnTo>
                    <a:pt x="77" y="416"/>
                  </a:lnTo>
                  <a:lnTo>
                    <a:pt x="75" y="416"/>
                  </a:lnTo>
                  <a:lnTo>
                    <a:pt x="78" y="419"/>
                  </a:lnTo>
                  <a:lnTo>
                    <a:pt x="78" y="417"/>
                  </a:lnTo>
                  <a:lnTo>
                    <a:pt x="75" y="415"/>
                  </a:lnTo>
                  <a:lnTo>
                    <a:pt x="74" y="415"/>
                  </a:lnTo>
                  <a:lnTo>
                    <a:pt x="76" y="418"/>
                  </a:lnTo>
                  <a:lnTo>
                    <a:pt x="83" y="402"/>
                  </a:lnTo>
                  <a:lnTo>
                    <a:pt x="88" y="386"/>
                  </a:lnTo>
                  <a:lnTo>
                    <a:pt x="91" y="374"/>
                  </a:lnTo>
                  <a:lnTo>
                    <a:pt x="91" y="373"/>
                  </a:lnTo>
                  <a:lnTo>
                    <a:pt x="93" y="360"/>
                  </a:lnTo>
                  <a:lnTo>
                    <a:pt x="95" y="349"/>
                  </a:lnTo>
                  <a:lnTo>
                    <a:pt x="95" y="348"/>
                  </a:lnTo>
                  <a:lnTo>
                    <a:pt x="91" y="334"/>
                  </a:lnTo>
                  <a:lnTo>
                    <a:pt x="91" y="333"/>
                  </a:lnTo>
                  <a:lnTo>
                    <a:pt x="85" y="328"/>
                  </a:lnTo>
                  <a:lnTo>
                    <a:pt x="83" y="328"/>
                  </a:lnTo>
                  <a:lnTo>
                    <a:pt x="76" y="328"/>
                  </a:lnTo>
                  <a:lnTo>
                    <a:pt x="68" y="329"/>
                  </a:lnTo>
                  <a:lnTo>
                    <a:pt x="67" y="330"/>
                  </a:lnTo>
                  <a:lnTo>
                    <a:pt x="62" y="335"/>
                  </a:lnTo>
                  <a:lnTo>
                    <a:pt x="54" y="343"/>
                  </a:lnTo>
                  <a:lnTo>
                    <a:pt x="45" y="352"/>
                  </a:lnTo>
                  <a:lnTo>
                    <a:pt x="27" y="380"/>
                  </a:lnTo>
                  <a:lnTo>
                    <a:pt x="14" y="411"/>
                  </a:lnTo>
                  <a:lnTo>
                    <a:pt x="13" y="411"/>
                  </a:lnTo>
                  <a:lnTo>
                    <a:pt x="9" y="427"/>
                  </a:lnTo>
                  <a:lnTo>
                    <a:pt x="4" y="441"/>
                  </a:lnTo>
                  <a:lnTo>
                    <a:pt x="0" y="464"/>
                  </a:lnTo>
                  <a:lnTo>
                    <a:pt x="0" y="465"/>
                  </a:lnTo>
                  <a:lnTo>
                    <a:pt x="4" y="483"/>
                  </a:lnTo>
                  <a:lnTo>
                    <a:pt x="5" y="485"/>
                  </a:lnTo>
                  <a:lnTo>
                    <a:pt x="10" y="488"/>
                  </a:lnTo>
                  <a:lnTo>
                    <a:pt x="11" y="489"/>
                  </a:lnTo>
                  <a:lnTo>
                    <a:pt x="17" y="489"/>
                  </a:lnTo>
                  <a:lnTo>
                    <a:pt x="24" y="487"/>
                  </a:lnTo>
                  <a:lnTo>
                    <a:pt x="37" y="478"/>
                  </a:lnTo>
                  <a:lnTo>
                    <a:pt x="38" y="478"/>
                  </a:lnTo>
                  <a:lnTo>
                    <a:pt x="60" y="450"/>
                  </a:lnTo>
                  <a:lnTo>
                    <a:pt x="60" y="449"/>
                  </a:lnTo>
                  <a:lnTo>
                    <a:pt x="67" y="436"/>
                  </a:lnTo>
                  <a:lnTo>
                    <a:pt x="67" y="435"/>
                  </a:lnTo>
                  <a:lnTo>
                    <a:pt x="67" y="434"/>
                  </a:lnTo>
                  <a:lnTo>
                    <a:pt x="67" y="433"/>
                  </a:lnTo>
                  <a:lnTo>
                    <a:pt x="66" y="433"/>
                  </a:lnTo>
                  <a:lnTo>
                    <a:pt x="65" y="431"/>
                  </a:lnTo>
                  <a:lnTo>
                    <a:pt x="63" y="431"/>
                  </a:lnTo>
                  <a:lnTo>
                    <a:pt x="62" y="433"/>
                  </a:lnTo>
                  <a:lnTo>
                    <a:pt x="55" y="447"/>
                  </a:lnTo>
                  <a:lnTo>
                    <a:pt x="56" y="447"/>
                  </a:lnTo>
                  <a:lnTo>
                    <a:pt x="33" y="474"/>
                  </a:lnTo>
                  <a:lnTo>
                    <a:pt x="21" y="482"/>
                  </a:lnTo>
                  <a:lnTo>
                    <a:pt x="22" y="482"/>
                  </a:lnTo>
                  <a:lnTo>
                    <a:pt x="15" y="483"/>
                  </a:lnTo>
                  <a:lnTo>
                    <a:pt x="16" y="483"/>
                  </a:lnTo>
                  <a:lnTo>
                    <a:pt x="11" y="483"/>
                  </a:lnTo>
                  <a:lnTo>
                    <a:pt x="13" y="484"/>
                  </a:lnTo>
                  <a:lnTo>
                    <a:pt x="8" y="480"/>
                  </a:lnTo>
                  <a:lnTo>
                    <a:pt x="9" y="482"/>
                  </a:lnTo>
                  <a:lnTo>
                    <a:pt x="6" y="464"/>
                  </a:lnTo>
                  <a:lnTo>
                    <a:pt x="6" y="465"/>
                  </a:lnTo>
                  <a:lnTo>
                    <a:pt x="9" y="442"/>
                  </a:lnTo>
                  <a:lnTo>
                    <a:pt x="14" y="428"/>
                  </a:lnTo>
                  <a:lnTo>
                    <a:pt x="19" y="413"/>
                  </a:lnTo>
                  <a:lnTo>
                    <a:pt x="32" y="382"/>
                  </a:lnTo>
                  <a:lnTo>
                    <a:pt x="32" y="383"/>
                  </a:lnTo>
                  <a:lnTo>
                    <a:pt x="50" y="355"/>
                  </a:lnTo>
                  <a:lnTo>
                    <a:pt x="49" y="356"/>
                  </a:lnTo>
                  <a:lnTo>
                    <a:pt x="58" y="347"/>
                  </a:lnTo>
                  <a:lnTo>
                    <a:pt x="66" y="339"/>
                  </a:lnTo>
                  <a:lnTo>
                    <a:pt x="72" y="334"/>
                  </a:lnTo>
                  <a:lnTo>
                    <a:pt x="71" y="335"/>
                  </a:lnTo>
                  <a:lnTo>
                    <a:pt x="78" y="333"/>
                  </a:lnTo>
                  <a:lnTo>
                    <a:pt x="77" y="333"/>
                  </a:lnTo>
                  <a:lnTo>
                    <a:pt x="83" y="333"/>
                  </a:lnTo>
                  <a:lnTo>
                    <a:pt x="82" y="332"/>
                  </a:lnTo>
                  <a:lnTo>
                    <a:pt x="87" y="337"/>
                  </a:lnTo>
                  <a:lnTo>
                    <a:pt x="86" y="336"/>
                  </a:lnTo>
                  <a:lnTo>
                    <a:pt x="89" y="349"/>
                  </a:lnTo>
                  <a:lnTo>
                    <a:pt x="89" y="348"/>
                  </a:lnTo>
                  <a:lnTo>
                    <a:pt x="87" y="359"/>
                  </a:lnTo>
                  <a:lnTo>
                    <a:pt x="86" y="372"/>
                  </a:lnTo>
                  <a:lnTo>
                    <a:pt x="82" y="384"/>
                  </a:lnTo>
                  <a:lnTo>
                    <a:pt x="77" y="400"/>
                  </a:lnTo>
                  <a:lnTo>
                    <a:pt x="71" y="417"/>
                  </a:lnTo>
                  <a:lnTo>
                    <a:pt x="74" y="420"/>
                  </a:lnTo>
                  <a:lnTo>
                    <a:pt x="75" y="420"/>
                  </a:lnTo>
                  <a:lnTo>
                    <a:pt x="72" y="417"/>
                  </a:lnTo>
                  <a:lnTo>
                    <a:pt x="72" y="419"/>
                  </a:lnTo>
                  <a:lnTo>
                    <a:pt x="75" y="422"/>
                  </a:lnTo>
                  <a:lnTo>
                    <a:pt x="77" y="422"/>
                  </a:lnTo>
                  <a:lnTo>
                    <a:pt x="74" y="419"/>
                  </a:lnTo>
                  <a:lnTo>
                    <a:pt x="74" y="421"/>
                  </a:lnTo>
                  <a:lnTo>
                    <a:pt x="74" y="422"/>
                  </a:lnTo>
                  <a:lnTo>
                    <a:pt x="103" y="462"/>
                  </a:lnTo>
                  <a:lnTo>
                    <a:pt x="134" y="503"/>
                  </a:lnTo>
                  <a:lnTo>
                    <a:pt x="196" y="573"/>
                  </a:lnTo>
                  <a:lnTo>
                    <a:pt x="227" y="606"/>
                  </a:lnTo>
                  <a:lnTo>
                    <a:pt x="260" y="635"/>
                  </a:lnTo>
                  <a:lnTo>
                    <a:pt x="292" y="663"/>
                  </a:lnTo>
                  <a:lnTo>
                    <a:pt x="293" y="663"/>
                  </a:lnTo>
                  <a:lnTo>
                    <a:pt x="357" y="709"/>
                  </a:lnTo>
                  <a:lnTo>
                    <a:pt x="390" y="730"/>
                  </a:lnTo>
                  <a:lnTo>
                    <a:pt x="458" y="765"/>
                  </a:lnTo>
                  <a:lnTo>
                    <a:pt x="492" y="778"/>
                  </a:lnTo>
                  <a:lnTo>
                    <a:pt x="526" y="790"/>
                  </a:lnTo>
                  <a:lnTo>
                    <a:pt x="593" y="811"/>
                  </a:lnTo>
                  <a:lnTo>
                    <a:pt x="594" y="811"/>
                  </a:lnTo>
                  <a:lnTo>
                    <a:pt x="628" y="818"/>
                  </a:lnTo>
                  <a:lnTo>
                    <a:pt x="700" y="823"/>
                  </a:lnTo>
                  <a:lnTo>
                    <a:pt x="735" y="826"/>
                  </a:lnTo>
                  <a:lnTo>
                    <a:pt x="769" y="826"/>
                  </a:lnTo>
                  <a:lnTo>
                    <a:pt x="770" y="826"/>
                  </a:lnTo>
                  <a:lnTo>
                    <a:pt x="803" y="823"/>
                  </a:lnTo>
                  <a:lnTo>
                    <a:pt x="837" y="821"/>
                  </a:lnTo>
                  <a:lnTo>
                    <a:pt x="908" y="811"/>
                  </a:lnTo>
                  <a:lnTo>
                    <a:pt x="978" y="793"/>
                  </a:lnTo>
                  <a:lnTo>
                    <a:pt x="1049" y="775"/>
                  </a:lnTo>
                  <a:lnTo>
                    <a:pt x="1152" y="736"/>
                  </a:lnTo>
                  <a:lnTo>
                    <a:pt x="1152" y="735"/>
                  </a:lnTo>
                  <a:lnTo>
                    <a:pt x="1187" y="717"/>
                  </a:lnTo>
                  <a:lnTo>
                    <a:pt x="1219" y="702"/>
                  </a:lnTo>
                  <a:lnTo>
                    <a:pt x="1253" y="685"/>
                  </a:lnTo>
                  <a:lnTo>
                    <a:pt x="1288" y="669"/>
                  </a:lnTo>
                  <a:lnTo>
                    <a:pt x="1289" y="669"/>
                  </a:lnTo>
                  <a:lnTo>
                    <a:pt x="1353" y="631"/>
                  </a:lnTo>
                  <a:lnTo>
                    <a:pt x="1420" y="589"/>
                  </a:lnTo>
                  <a:lnTo>
                    <a:pt x="1482" y="549"/>
                  </a:lnTo>
                  <a:lnTo>
                    <a:pt x="1544" y="503"/>
                  </a:lnTo>
                  <a:lnTo>
                    <a:pt x="1605" y="459"/>
                  </a:lnTo>
                  <a:lnTo>
                    <a:pt x="1663" y="415"/>
                  </a:lnTo>
                  <a:lnTo>
                    <a:pt x="1663" y="414"/>
                  </a:lnTo>
                  <a:lnTo>
                    <a:pt x="1720" y="368"/>
                  </a:lnTo>
                  <a:lnTo>
                    <a:pt x="1776" y="322"/>
                  </a:lnTo>
                  <a:lnTo>
                    <a:pt x="1826" y="275"/>
                  </a:lnTo>
                  <a:lnTo>
                    <a:pt x="1878" y="229"/>
                  </a:lnTo>
                  <a:lnTo>
                    <a:pt x="2049" y="69"/>
                  </a:lnTo>
                  <a:lnTo>
                    <a:pt x="2050" y="67"/>
                  </a:lnTo>
                  <a:lnTo>
                    <a:pt x="2050" y="62"/>
                  </a:lnTo>
                  <a:lnTo>
                    <a:pt x="2047" y="66"/>
                  </a:lnTo>
                  <a:lnTo>
                    <a:pt x="2048" y="66"/>
                  </a:lnTo>
                  <a:lnTo>
                    <a:pt x="2050" y="64"/>
                  </a:lnTo>
                  <a:lnTo>
                    <a:pt x="2054" y="63"/>
                  </a:lnTo>
                  <a:lnTo>
                    <a:pt x="2053" y="63"/>
                  </a:lnTo>
                  <a:lnTo>
                    <a:pt x="2055" y="63"/>
                  </a:lnTo>
                  <a:lnTo>
                    <a:pt x="2057" y="60"/>
                  </a:lnTo>
                  <a:lnTo>
                    <a:pt x="2054" y="40"/>
                  </a:lnTo>
                  <a:lnTo>
                    <a:pt x="2054" y="23"/>
                  </a:lnTo>
                  <a:lnTo>
                    <a:pt x="2057" y="12"/>
                  </a:lnTo>
                  <a:lnTo>
                    <a:pt x="2057" y="13"/>
                  </a:lnTo>
                  <a:lnTo>
                    <a:pt x="2061" y="8"/>
                  </a:lnTo>
                  <a:lnTo>
                    <a:pt x="2059" y="9"/>
                  </a:lnTo>
                  <a:lnTo>
                    <a:pt x="2064" y="7"/>
                  </a:lnTo>
                  <a:lnTo>
                    <a:pt x="2070" y="6"/>
                  </a:lnTo>
                  <a:lnTo>
                    <a:pt x="2069" y="6"/>
                  </a:lnTo>
                  <a:lnTo>
                    <a:pt x="2074" y="7"/>
                  </a:lnTo>
                  <a:lnTo>
                    <a:pt x="2080" y="10"/>
                  </a:lnTo>
                  <a:lnTo>
                    <a:pt x="2092" y="23"/>
                  </a:lnTo>
                  <a:lnTo>
                    <a:pt x="2105" y="42"/>
                  </a:lnTo>
                  <a:lnTo>
                    <a:pt x="2105" y="41"/>
                  </a:lnTo>
                  <a:lnTo>
                    <a:pt x="2110" y="53"/>
                  </a:lnTo>
                  <a:lnTo>
                    <a:pt x="2116" y="76"/>
                  </a:lnTo>
                  <a:lnTo>
                    <a:pt x="2116" y="75"/>
                  </a:lnTo>
                  <a:lnTo>
                    <a:pt x="2118" y="87"/>
                  </a:lnTo>
                  <a:lnTo>
                    <a:pt x="2118" y="86"/>
                  </a:lnTo>
                  <a:lnTo>
                    <a:pt x="2118" y="97"/>
                  </a:lnTo>
                  <a:lnTo>
                    <a:pt x="2118" y="96"/>
                  </a:lnTo>
                  <a:lnTo>
                    <a:pt x="2115" y="110"/>
                  </a:lnTo>
                  <a:lnTo>
                    <a:pt x="2115" y="109"/>
                  </a:lnTo>
                  <a:lnTo>
                    <a:pt x="2111" y="114"/>
                  </a:lnTo>
                  <a:lnTo>
                    <a:pt x="2111" y="113"/>
                  </a:lnTo>
                  <a:lnTo>
                    <a:pt x="2106" y="117"/>
                  </a:lnTo>
                  <a:lnTo>
                    <a:pt x="2106" y="116"/>
                  </a:lnTo>
                  <a:lnTo>
                    <a:pt x="2101" y="118"/>
                  </a:lnTo>
                  <a:lnTo>
                    <a:pt x="2103" y="119"/>
                  </a:lnTo>
                  <a:lnTo>
                    <a:pt x="2099" y="117"/>
                  </a:lnTo>
                  <a:lnTo>
                    <a:pt x="2098" y="116"/>
                  </a:lnTo>
                  <a:lnTo>
                    <a:pt x="2092" y="115"/>
                  </a:lnTo>
                  <a:lnTo>
                    <a:pt x="2093" y="115"/>
                  </a:lnTo>
                  <a:lnTo>
                    <a:pt x="2087" y="111"/>
                  </a:lnTo>
                  <a:lnTo>
                    <a:pt x="2075" y="96"/>
                  </a:lnTo>
                  <a:lnTo>
                    <a:pt x="2076" y="97"/>
                  </a:lnTo>
                  <a:lnTo>
                    <a:pt x="2065" y="78"/>
                  </a:lnTo>
                  <a:lnTo>
                    <a:pt x="2061" y="78"/>
                  </a:lnTo>
                  <a:lnTo>
                    <a:pt x="1963" y="166"/>
                  </a:lnTo>
                  <a:lnTo>
                    <a:pt x="1858" y="265"/>
                  </a:lnTo>
                  <a:lnTo>
                    <a:pt x="1688" y="417"/>
                  </a:lnTo>
                  <a:lnTo>
                    <a:pt x="1503" y="566"/>
                  </a:lnTo>
                  <a:lnTo>
                    <a:pt x="1503" y="565"/>
                  </a:lnTo>
                  <a:lnTo>
                    <a:pt x="1438" y="613"/>
                  </a:lnTo>
                  <a:lnTo>
                    <a:pt x="1374" y="659"/>
                  </a:lnTo>
                  <a:lnTo>
                    <a:pt x="1307" y="701"/>
                  </a:lnTo>
                  <a:lnTo>
                    <a:pt x="1240" y="741"/>
                  </a:lnTo>
                  <a:lnTo>
                    <a:pt x="1209" y="759"/>
                  </a:lnTo>
                  <a:lnTo>
                    <a:pt x="1107" y="809"/>
                  </a:lnTo>
                  <a:lnTo>
                    <a:pt x="1073" y="822"/>
                  </a:lnTo>
                  <a:lnTo>
                    <a:pt x="1073" y="823"/>
                  </a:lnTo>
                  <a:lnTo>
                    <a:pt x="1006" y="850"/>
                  </a:lnTo>
                  <a:lnTo>
                    <a:pt x="938" y="868"/>
                  </a:lnTo>
                  <a:lnTo>
                    <a:pt x="902" y="878"/>
                  </a:lnTo>
                  <a:lnTo>
                    <a:pt x="835" y="891"/>
                  </a:lnTo>
                  <a:lnTo>
                    <a:pt x="769" y="896"/>
                  </a:lnTo>
                  <a:lnTo>
                    <a:pt x="735" y="896"/>
                  </a:lnTo>
                  <a:lnTo>
                    <a:pt x="667" y="894"/>
                  </a:lnTo>
                  <a:lnTo>
                    <a:pt x="632" y="889"/>
                  </a:lnTo>
                  <a:lnTo>
                    <a:pt x="633" y="889"/>
                  </a:lnTo>
                  <a:lnTo>
                    <a:pt x="567" y="874"/>
                  </a:lnTo>
                  <a:lnTo>
                    <a:pt x="533" y="863"/>
                  </a:lnTo>
                  <a:lnTo>
                    <a:pt x="500" y="852"/>
                  </a:lnTo>
                  <a:lnTo>
                    <a:pt x="501" y="852"/>
                  </a:lnTo>
                  <a:lnTo>
                    <a:pt x="466" y="837"/>
                  </a:lnTo>
                  <a:lnTo>
                    <a:pt x="404" y="803"/>
                  </a:lnTo>
                  <a:lnTo>
                    <a:pt x="372" y="782"/>
                  </a:lnTo>
                  <a:lnTo>
                    <a:pt x="341" y="757"/>
                  </a:lnTo>
                  <a:lnTo>
                    <a:pt x="341" y="758"/>
                  </a:lnTo>
                  <a:lnTo>
                    <a:pt x="276" y="703"/>
                  </a:lnTo>
                  <a:lnTo>
                    <a:pt x="215" y="639"/>
                  </a:lnTo>
                  <a:lnTo>
                    <a:pt x="185" y="604"/>
                  </a:lnTo>
                  <a:lnTo>
                    <a:pt x="154" y="566"/>
                  </a:lnTo>
                  <a:lnTo>
                    <a:pt x="96" y="481"/>
                  </a:lnTo>
                  <a:lnTo>
                    <a:pt x="67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477120" y="144792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A shares with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B responds to A in the form of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Revers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Then, rotate 3 to the right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hoice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 Grade 9 GAP Clo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a module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the diagnost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suggested interventio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 Facilitator’s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 4.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Your Own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ose a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difficul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n Open 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est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 BLM PR4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3171-B1BF-4FFD-91CC-65C62AE6C0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457200" y="472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Modules most closely aligned with CAMPPP top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s, Proportional Reas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ic Expressions and Equations, Solving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use the GAP closing materials with your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incorporate some of the “features” of GAP closing into your instruction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ole do open questions currently play in your classroom? How might you use them to support struggling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4E2-141F-40CE-9118-8338E25B77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AC2-8921-47A9-B405-FE9E473DC3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3276720" cy="461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376880" y="1444680"/>
            <a:ext cx="4827600" cy="31338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219320" y="17146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of the w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esonates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ffirmed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new idea struck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354640" y="1676520"/>
            <a:ext cx="281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 of the we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uzzling o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you ponde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question do you stil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ing it All Togeth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91B-4FE2-4552-BE8F-653A61483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467320" cy="3486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533520" y="16002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light bulb/ puzzle piece to one of the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 couple of ideas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600200"/>
            <a:ext cx="5334120" cy="2362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ank you for letting us journey through this week of learning with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62C-EFD2-49A3-8454-744C51913C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Z:\Clip Art\Occasions\Parties (A - L)\Balloons 03.wmf"/>
          <p:cNvPicPr/>
          <p:nvPr/>
        </p:nvPicPr>
        <p:blipFill>
          <a:blip r:embed="rId1"/>
          <a:stretch/>
        </p:blipFill>
        <p:spPr>
          <a:xfrm>
            <a:off x="5791320" y="380880"/>
            <a:ext cx="35827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1T01:52:27Z</dcterms:modified>
  <cp:revision>18</cp:revision>
  <dc:subject/>
  <dc:title>&lt;Title&gt;</dc:title>
</cp:coreProperties>
</file>